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1FDF-B5EF-45CC-9D9E-D37D3807FF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A5E5-B5E6-4152-AE22-0701BB6C49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5C99-D35F-4B77-B747-EE4F858837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7106-D7A5-484A-AE5C-4581E6D4B6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A24D-2DE6-4D1C-8B4E-AE2ED76EC4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43CE-B299-4642-AE1F-76F4DE146A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875F-F07C-4B23-A592-FAA4437726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85F7-3C49-4A16-9A54-8815FF802B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0559-0429-476E-AFA5-E3F4391358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98AE-5A6B-4B1A-B075-E34984FF21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237E-ED5A-4D3C-8D44-8F5B83CDAD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AF1C-A0A2-47CD-871C-FF4B611655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F49C-7FD5-4040-8F91-1CBCC48FBA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2A51-C07E-42A8-8D7F-47EF6995B3E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6EAE-D392-4D99-86F0-3F94F59BE8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6A9C-7933-4476-843A-586F1319E6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D0E-4AD2-4F28-8B14-2076A101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E9E-B46B-4EF0-B458-CADC06CA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339-A72D-46EC-95AF-125E21E8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4FB-EB81-4E26-8C32-41BC4010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BB08-6EAB-47CE-8965-7B52A663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5880-6C7A-457F-B516-7AF0833C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5478-20E7-4DAD-AD62-7D21142B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C4F3-DF62-4B2F-9009-A730915C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864F-0272-4EF2-855D-B43258F0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4281-EF9A-4D7F-828C-374CA8C7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3564-A432-4F19-B7F7-C93CD2B4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0B5-AE07-490C-82CF-EE832625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E36D-A897-446C-86A1-26625174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749D-5FB5-4B4C-997B-7E23E381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41D6-A99B-40AF-BAE0-B85B97DA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5ACF-6B0A-4A69-9EF3-60E34FD0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64B1-93D7-4BD9-BF5E-43DACFB1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823-1978-4390-B7CA-62AB7980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2A2-8FA8-4BAB-89D5-AC65759D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15C-D19D-429C-86AD-D7354B69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1B8-E2B3-4B7F-AE26-1566BD54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A05-8C4D-4DF2-8CBE-14937C17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17C7-3F1A-42D7-AE5B-95DD582A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AE7-09B5-4EF2-B7F8-AA497F67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CCBB-BB8E-4203-82F2-A9E1B9ED87D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634C-C3DF-4B66-A019-D3DE2DDCEA8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94920" y="2635200"/>
            <a:ext cx="8497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l sistema excretor y la excre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dentificar las estructuras del sistema renal y sus fun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nocer los diferentes procesos de excre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excretor_masculino"/>
          <p:cNvPicPr/>
          <p:nvPr/>
        </p:nvPicPr>
        <p:blipFill>
          <a:blip r:embed="rId1"/>
          <a:stretch/>
        </p:blipFill>
        <p:spPr>
          <a:xfrm>
            <a:off x="144360" y="0"/>
            <a:ext cx="4211640" cy="263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excretor_femenino"/>
          <p:cNvPicPr/>
          <p:nvPr/>
        </p:nvPicPr>
        <p:blipFill>
          <a:blip r:embed="rId2"/>
          <a:stretch/>
        </p:blipFill>
        <p:spPr>
          <a:xfrm>
            <a:off x="4932360" y="0"/>
            <a:ext cx="4067280" cy="2527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560" y="28080"/>
            <a:ext cx="375444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6699"/>
                </a:solidFill>
                <a:latin typeface="Garamond"/>
              </a:rPr>
              <a:t>Vías excretoras:</a:t>
            </a:r>
            <a:br>
              <a:rPr sz="4000"/>
            </a:br>
            <a:r>
              <a:rPr b="1" lang="es-ES" sz="4000" spc="-1" strike="noStrike">
                <a:solidFill>
                  <a:srgbClr val="666699"/>
                </a:solidFill>
                <a:latin typeface="Garamond"/>
              </a:rPr>
              <a:t>Uréteres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313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ten de la pelvis renal y llevan la orina hasta la vejig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ámetro 3 m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orina desciende por grave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9" descr="ureteres"/>
          <p:cNvPicPr/>
          <p:nvPr/>
        </p:nvPicPr>
        <p:blipFill>
          <a:blip r:embed="rId1"/>
          <a:srcRect l="0" t="8283" r="0" b="15150"/>
          <a:stretch/>
        </p:blipFill>
        <p:spPr>
          <a:xfrm>
            <a:off x="3348000" y="260280"/>
            <a:ext cx="5796000" cy="6481800"/>
          </a:xfrm>
          <a:prstGeom prst="rect">
            <a:avLst/>
          </a:prstGeom>
          <a:ln w="0">
            <a:noFill/>
          </a:ln>
        </p:spPr>
      </p:pic>
      <p:sp>
        <p:nvSpPr>
          <p:cNvPr id="125" name="2 Rectángulo"/>
          <p:cNvSpPr/>
          <p:nvPr/>
        </p:nvSpPr>
        <p:spPr>
          <a:xfrm>
            <a:off x="5435640" y="33480"/>
            <a:ext cx="3600360" cy="231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aramond"/>
              </a:rPr>
              <a:t>Vías excretoras: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Garamond"/>
              </a:rPr>
              <a:t>Vejiga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360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olsa dilatable en la excavación de la pelv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lena tiene forma esférica y puede retener de 2 a 3 litros de orin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vacía por contracción de la capa muscul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7" descr="vejiga"/>
          <p:cNvPicPr/>
          <p:nvPr/>
        </p:nvPicPr>
        <p:blipFill>
          <a:blip r:embed="rId1"/>
          <a:srcRect l="0" t="25958" r="0" b="0"/>
          <a:stretch/>
        </p:blipFill>
        <p:spPr>
          <a:xfrm>
            <a:off x="4140360" y="115920"/>
            <a:ext cx="481320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920" y="1463760"/>
            <a:ext cx="41767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ducto que lleva la orina hasta el exterior del cuerpo durante la mic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el hombre es más larga y tiene también función reproduct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dos esfínteres que la mantienen cerrada hasta el momento de orina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6699"/>
                </a:solidFill>
                <a:latin typeface="Garamond"/>
              </a:rPr>
              <a:t>Vías excretoras:</a:t>
            </a:r>
            <a:br>
              <a:rPr sz="4000"/>
            </a:br>
            <a:r>
              <a:rPr b="1" lang="es-ES" sz="4000" spc="-1" strike="noStrike">
                <a:solidFill>
                  <a:srgbClr val="666699"/>
                </a:solidFill>
                <a:latin typeface="Garamond"/>
              </a:rPr>
              <a:t>Uretra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31" name="Imagen 2" descr=""/>
          <p:cNvPicPr/>
          <p:nvPr/>
        </p:nvPicPr>
        <p:blipFill>
          <a:blip r:embed="rId1"/>
          <a:stretch/>
        </p:blipFill>
        <p:spPr>
          <a:xfrm>
            <a:off x="4514760" y="104760"/>
            <a:ext cx="4176720" cy="4675320"/>
          </a:xfrm>
          <a:prstGeom prst="rect">
            <a:avLst/>
          </a:prstGeom>
          <a:ln w="0">
            <a:noFill/>
          </a:ln>
        </p:spPr>
      </p:pic>
      <p:sp>
        <p:nvSpPr>
          <p:cNvPr id="132" name="Flecha: doblada hacia arriba 4"/>
          <p:cNvSpPr/>
          <p:nvPr/>
        </p:nvSpPr>
        <p:spPr>
          <a:xfrm>
            <a:off x="1441440" y="4446720"/>
            <a:ext cx="5556240" cy="1657080"/>
          </a:xfrm>
          <a:custGeom>
            <a:avLst/>
            <a:gdLst/>
            <a:ahLst/>
            <a:rect l="l" t="t" r="r" b="b"/>
            <a:pathLst>
              <a:path w="5556250" h="1657350">
                <a:moveTo>
                  <a:pt x="0" y="1243013"/>
                </a:moveTo>
                <a:lnTo>
                  <a:pt x="4934744" y="1243013"/>
                </a:lnTo>
                <a:lnTo>
                  <a:pt x="4934744" y="414338"/>
                </a:lnTo>
                <a:lnTo>
                  <a:pt x="4727575" y="414338"/>
                </a:lnTo>
                <a:lnTo>
                  <a:pt x="5141913" y="0"/>
                </a:lnTo>
                <a:lnTo>
                  <a:pt x="5556250" y="414338"/>
                </a:lnTo>
                <a:lnTo>
                  <a:pt x="5349081" y="414338"/>
                </a:lnTo>
                <a:lnTo>
                  <a:pt x="5349081" y="1657350"/>
                </a:lnTo>
                <a:lnTo>
                  <a:pt x="0" y="1657350"/>
                </a:lnTo>
                <a:lnTo>
                  <a:pt x="0" y="1243013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bc6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14400"/>
            <a:ext cx="398952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Garamond"/>
              </a:rPr>
              <a:t>La nefron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51640" y="333360"/>
            <a:ext cx="3371760" cy="6191280"/>
          </a:xfrm>
          <a:prstGeom prst="rect">
            <a:avLst/>
          </a:prstGeom>
          <a:solidFill>
            <a:srgbClr val="fff5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idad funcional del riñón. Formada p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orpúsculo de Malpigh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conjunto formado por el </a:t>
            </a: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glomérulo re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capilares arteriales procedentes de una arteriola aferente) y la </a:t>
            </a: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ápsula de Bowman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Bolsa que rodea al glomérul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Túbulo contorneado proxim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Asa de Hen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Túbulo contorneado dist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que desemboca en el </a:t>
            </a: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tubo colecto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La orina pasa a los </a:t>
            </a: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álices ren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Imagen 2" descr=""/>
          <p:cNvPicPr/>
          <p:nvPr/>
        </p:nvPicPr>
        <p:blipFill>
          <a:blip r:embed="rId1"/>
          <a:stretch/>
        </p:blipFill>
        <p:spPr>
          <a:xfrm>
            <a:off x="120600" y="955800"/>
            <a:ext cx="5531040" cy="5425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6699"/>
                </a:solidFill>
                <a:latin typeface="Garamond"/>
              </a:rPr>
              <a:t>La nefrona: Glomérulo y cápsula de Bowmann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37" name="Picture 7" descr="glomerulo_renal"/>
          <p:cNvPicPr/>
          <p:nvPr/>
        </p:nvPicPr>
        <p:blipFill>
          <a:blip r:embed="rId1"/>
          <a:stretch/>
        </p:blipFill>
        <p:spPr>
          <a:xfrm>
            <a:off x="179280" y="1417680"/>
            <a:ext cx="4680000" cy="5257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Glomerulo3"/>
          <p:cNvPicPr/>
          <p:nvPr/>
        </p:nvPicPr>
        <p:blipFill>
          <a:blip r:embed="rId2"/>
          <a:stretch/>
        </p:blipFill>
        <p:spPr>
          <a:xfrm>
            <a:off x="5580000" y="1417680"/>
            <a:ext cx="3240000" cy="2195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glomerulo2"/>
          <p:cNvPicPr/>
          <p:nvPr/>
        </p:nvPicPr>
        <p:blipFill>
          <a:blip r:embed="rId3"/>
          <a:stretch/>
        </p:blipFill>
        <p:spPr>
          <a:xfrm>
            <a:off x="5148360" y="3789360"/>
            <a:ext cx="3671640" cy="2832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6699"/>
                </a:solidFill>
                <a:latin typeface="Garamond"/>
              </a:rPr>
              <a:t>Orin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16360" y="847800"/>
            <a:ext cx="3959280" cy="5821200"/>
          </a:xfrm>
          <a:prstGeom prst="rect">
            <a:avLst/>
          </a:prstGeom>
          <a:solidFill>
            <a:srgbClr val="fff5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Composición de la orina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Agua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95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Urea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producto final nitrogenado del catabolismo de las proteín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Creatinin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derivado de la creatina , reservorio energético muscul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Ácido úric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 : derivado del catabolismo de las bases nitrogenad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Cloruro de so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Sulfatos y fosf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Otros pigmentos y electrolit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como Na+,Ca+, K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6" descr="orina"/>
          <p:cNvPicPr/>
          <p:nvPr/>
        </p:nvPicPr>
        <p:blipFill>
          <a:blip r:embed="rId1"/>
          <a:stretch/>
        </p:blipFill>
        <p:spPr>
          <a:xfrm>
            <a:off x="468360" y="1557360"/>
            <a:ext cx="2382840" cy="292572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4" descr=""/>
          <p:cNvPicPr/>
          <p:nvPr/>
        </p:nvPicPr>
        <p:blipFill>
          <a:blip r:embed="rId2"/>
          <a:stretch/>
        </p:blipFill>
        <p:spPr>
          <a:xfrm>
            <a:off x="7164360" y="115920"/>
            <a:ext cx="197964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6699"/>
                </a:solidFill>
                <a:latin typeface="Garamond"/>
              </a:rPr>
              <a:t>Glándulas sudoríparas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7640" y="981000"/>
            <a:ext cx="5327640" cy="5616720"/>
          </a:xfrm>
          <a:prstGeom prst="rect">
            <a:avLst/>
          </a:prstGeom>
          <a:solidFill>
            <a:srgbClr val="fff5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on glándulas tubulares enrolladas, situadas en la dermis, con un tubo excretor que desemboca en la superficie de la pie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os tip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Glándulas ecrina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 Existen unas 600 glándulas por centímetro cuadrado de piel, con mayor concentración en palmas de las manos, plantas de los pies y región frontal de la car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gregan 1 litro al día en condiciones basales y hasta 10 l en condiciones extrema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Glándulas apocrina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 Son poco numerosas y se localizan en axila, periné, pubis  y conducto auditivo extern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tas glándulas son las encargadas de la secreción de las feromonas, sustancias responsables del olor característico de zonas como las axilas y los órganos sexual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6" descr="sudoriparas"/>
          <p:cNvPicPr/>
          <p:nvPr/>
        </p:nvPicPr>
        <p:blipFill>
          <a:blip r:embed="rId1"/>
          <a:stretch/>
        </p:blipFill>
        <p:spPr>
          <a:xfrm>
            <a:off x="5573880" y="981000"/>
            <a:ext cx="3462120" cy="5492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6699"/>
                </a:solidFill>
                <a:latin typeface="Garamond"/>
              </a:rPr>
              <a:t>El sudo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Funcion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excretora: Elimina urea y ácido úrico, y otras sustancias como el tabaco y el alcoho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termorreguladora: el elevado calor de vaporización del agua permite refrigerar la pi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Verdana"/>
              </a:rPr>
              <a:t>Composición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99,00% de ag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0,60% de sales minerales (NaC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0,40% de sustancias orgánicas (urea, creatinina y ácido úric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8" descr="feliz_sudor"/>
          <p:cNvPicPr/>
          <p:nvPr/>
        </p:nvPicPr>
        <p:blipFill>
          <a:blip r:embed="rId1"/>
          <a:stretch/>
        </p:blipFill>
        <p:spPr>
          <a:xfrm>
            <a:off x="1042920" y="4437000"/>
            <a:ext cx="2857680" cy="2219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2"/>
          <a:stretch/>
        </p:blipFill>
        <p:spPr>
          <a:xfrm>
            <a:off x="5148360" y="0"/>
            <a:ext cx="2733480" cy="3833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7044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6699"/>
                </a:solidFill>
                <a:latin typeface="Garamond"/>
              </a:rPr>
              <a:t>La excreció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 el proceso biológico por el que un ser vivo elimina de su organismo las sustancias tóxicas, adquiridas por la alimentación o producidas por su metabolism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1" lang="es-ES" sz="2600" spc="-1" strike="noStrike">
                <a:solidFill>
                  <a:srgbClr val="666699"/>
                </a:solidFill>
                <a:latin typeface="Verdana"/>
              </a:rPr>
              <a:t>órgan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que participan en la excreción s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Verdana"/>
              </a:rPr>
              <a:t>Pulmone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. Expulsan al aire el </a:t>
            </a:r>
            <a:r>
              <a:rPr b="0" lang="es-ES" sz="2600" spc="-1" strike="noStrike">
                <a:solidFill>
                  <a:srgbClr val="ff0000"/>
                </a:solidFill>
                <a:latin typeface="Verdana"/>
              </a:rPr>
              <a:t>dióxido de carbon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producido en la respiración celul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Verdana"/>
              </a:rPr>
              <a:t>Hígad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. Expulsa al intestino </a:t>
            </a:r>
            <a:r>
              <a:rPr b="0" lang="es-ES" sz="2600" spc="-1" strike="noStrike">
                <a:solidFill>
                  <a:srgbClr val="ff0000"/>
                </a:solidFill>
                <a:latin typeface="Verdana"/>
              </a:rPr>
              <a:t>productos tóxic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formados en las transformaciones químicas de los nutrientes, estos desechos se eliminan mediante las he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Imagen 3" descr=""/>
          <p:cNvPicPr/>
          <p:nvPr/>
        </p:nvPicPr>
        <p:blipFill>
          <a:blip r:embed="rId1"/>
          <a:stretch/>
        </p:blipFill>
        <p:spPr>
          <a:xfrm>
            <a:off x="6012000" y="0"/>
            <a:ext cx="147132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7640" y="1412640"/>
            <a:ext cx="734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99"/>
                </a:solidFill>
                <a:latin typeface="Verdana"/>
              </a:rPr>
              <a:t>Glándulas sudoríparas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. Junto con el agua filtran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productos tóxicos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, y eliminan el agua, aunque es una respuesta a la temperatur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99"/>
                </a:solidFill>
                <a:latin typeface="Verdana"/>
              </a:rPr>
              <a:t>Riñones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. Hacen una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filtración selectiva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de los compuestos tóxicos de la sangre. Regulan la cantidad de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sales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del organismo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Imagen 2" descr=""/>
          <p:cNvPicPr/>
          <p:nvPr/>
        </p:nvPicPr>
        <p:blipFill>
          <a:blip r:embed="rId1"/>
          <a:stretch/>
        </p:blipFill>
        <p:spPr>
          <a:xfrm>
            <a:off x="7427880" y="119160"/>
            <a:ext cx="1546200" cy="3813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6699"/>
                </a:solidFill>
                <a:latin typeface="Garamond"/>
              </a:rPr>
              <a:t>Productos de desecho que se excreta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20480" y="1442520"/>
            <a:ext cx="692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99"/>
                </a:solidFill>
                <a:latin typeface="Verdana"/>
              </a:rPr>
              <a:t>Urea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. Se produce en el hígado por degradación de los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aminoácidos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, y se elimina con la </a:t>
            </a:r>
            <a:r>
              <a:rPr b="0" lang="es-ES" sz="3200" spc="-1" strike="noStrike">
                <a:solidFill>
                  <a:srgbClr val="ff9900"/>
                </a:solidFill>
                <a:latin typeface="Verdana"/>
              </a:rPr>
              <a:t>orina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(es el producto de desecho principal de compuestos nitrogenados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99"/>
                </a:solidFill>
                <a:latin typeface="Verdana"/>
              </a:rPr>
              <a:t>Ácido úrico.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Es un producto de desecho del metabolismo de nitrógeno (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purinas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) y se encuentra en la </a:t>
            </a:r>
            <a:r>
              <a:rPr b="0" lang="es-ES" sz="3200" spc="-1" strike="noStrike">
                <a:solidFill>
                  <a:srgbClr val="ff9900"/>
                </a:solidFill>
                <a:latin typeface="Verdana"/>
              </a:rPr>
              <a:t>orina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 en pequeñas cantidad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Imagen 3" descr=""/>
          <p:cNvPicPr/>
          <p:nvPr/>
        </p:nvPicPr>
        <p:blipFill>
          <a:blip r:embed="rId1"/>
          <a:stretch/>
        </p:blipFill>
        <p:spPr>
          <a:xfrm>
            <a:off x="108000" y="1442880"/>
            <a:ext cx="2112840" cy="414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9280" y="549000"/>
            <a:ext cx="6408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99"/>
                </a:solidFill>
                <a:latin typeface="Verdana"/>
              </a:rPr>
              <a:t>Dióxido de carbono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: Formado en la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respiración celular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, se excreta por los  pulmon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s-ES" sz="3200" spc="-1" strike="noStrike">
                <a:solidFill>
                  <a:srgbClr val="990099"/>
                </a:solidFill>
                <a:latin typeface="Verdana"/>
              </a:rPr>
              <a:t>Agua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: Se produce en la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respiración celular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, y se excreta mediante los riñones, el </a:t>
            </a:r>
            <a:r>
              <a:rPr b="0" lang="es-ES" sz="3200" spc="-1" strike="noStrike">
                <a:solidFill>
                  <a:srgbClr val="ff9900"/>
                </a:solidFill>
                <a:latin typeface="Verdana"/>
              </a:rPr>
              <a:t>sudor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y la respiración pulmona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99"/>
                </a:solidFill>
                <a:latin typeface="Verdana"/>
              </a:rPr>
              <a:t>Pigmentos biliares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: Se forman por degradación de la </a:t>
            </a: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hemoglobina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en el hígado, y se expulsan con las </a:t>
            </a:r>
            <a:r>
              <a:rPr b="0" lang="es-ES" sz="3200" spc="-1" strike="noStrike">
                <a:solidFill>
                  <a:srgbClr val="ff9900"/>
                </a:solidFill>
                <a:latin typeface="Verdana"/>
              </a:rPr>
              <a:t>heces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2" descr="Pakapaka - Sofia es científica y hoy celebramos el Día Internacional de la  Mujer y la Niña en la Ciencia. #CienciaZapata #CienciaConTodas #Mujeres # Niñas #CIencia #Pakapaka | Facebook"/>
          <p:cNvPicPr/>
          <p:nvPr/>
        </p:nvPicPr>
        <p:blipFill>
          <a:blip r:embed="rId1"/>
          <a:srcRect l="18629" t="6266" r="10835" b="5594"/>
          <a:stretch/>
        </p:blipFill>
        <p:spPr>
          <a:xfrm>
            <a:off x="7020000" y="189000"/>
            <a:ext cx="173196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6699"/>
                </a:solidFill>
                <a:latin typeface="Garamond"/>
              </a:rPr>
              <a:t>Homeostasi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junto de mecanismos por los que los seres vivos tienden a alcanzar una estabilidad en las propiedades y la composición bioquímica de su medio inter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tectan pequeñas variaciones y desencadenan procesos para corregir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Mantenimiento de la presión osmótic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A través de los riño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Temperatura corpora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Mediante el sudor y la circulación sanguíne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Ph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A través de sistemas tamp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Coordinación químic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de muchas sustancias mediante las hormonas (como la </a:t>
            </a:r>
            <a:r>
              <a:rPr b="0" lang="es-ES" sz="2400" spc="-1" strike="noStrike">
                <a:solidFill>
                  <a:srgbClr val="666699"/>
                </a:solidFill>
                <a:latin typeface="Verdana"/>
              </a:rPr>
              <a:t>glucos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regulada por las hormonas </a:t>
            </a:r>
            <a:r>
              <a:rPr b="0" lang="es-ES" sz="2400" spc="-1" strike="noStrike">
                <a:solidFill>
                  <a:srgbClr val="666699"/>
                </a:solidFill>
                <a:latin typeface="Verdana"/>
              </a:rPr>
              <a:t>insulin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lang="es-ES" sz="2400" spc="-1" strike="noStrike">
                <a:solidFill>
                  <a:srgbClr val="666699"/>
                </a:solidFill>
                <a:latin typeface="Verdana"/>
              </a:rPr>
              <a:t>glucagón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6699"/>
                </a:solidFill>
                <a:latin typeface="Garamond"/>
              </a:rPr>
              <a:t>Anatomía del aparato excreto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03280" y="1052640"/>
            <a:ext cx="38466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Órganos excretor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99"/>
                </a:solidFill>
                <a:latin typeface="Verdana"/>
              </a:rPr>
              <a:t>Riñone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2). Filtran la sangre que les llega a través de las arterias renales; la sangre libre de desechos sale por las venas rena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Vías excretor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99"/>
                </a:solidFill>
                <a:latin typeface="Verdana"/>
              </a:rPr>
              <a:t>Urétere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99"/>
                </a:solidFill>
                <a:latin typeface="Verdana"/>
              </a:rPr>
              <a:t>Vejiga urinari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99"/>
                </a:solidFill>
                <a:latin typeface="Verdana"/>
              </a:rPr>
              <a:t>Uretr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8" descr="excretor2"/>
          <p:cNvPicPr/>
          <p:nvPr/>
        </p:nvPicPr>
        <p:blipFill>
          <a:blip r:embed="rId1"/>
          <a:stretch/>
        </p:blipFill>
        <p:spPr>
          <a:xfrm>
            <a:off x="293760" y="858960"/>
            <a:ext cx="4709880" cy="5883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454644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6699"/>
                </a:solidFill>
                <a:latin typeface="Garamond"/>
              </a:rPr>
              <a:t>Riñone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840" y="836640"/>
            <a:ext cx="390672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0099"/>
                </a:solidFill>
                <a:latin typeface="Verdana"/>
              </a:rPr>
              <a:t>Cápsula rena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 Fina membrana de tejido conjuntiv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0099"/>
                </a:solidFill>
                <a:latin typeface="Verdana"/>
              </a:rPr>
              <a:t>Corteza rena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 1 cm de grosor, aspecto granulos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0099"/>
                </a:solidFill>
                <a:latin typeface="Verdana"/>
              </a:rPr>
              <a:t>Médul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 Aspecto estriado radial. Dividida en sectores (</a:t>
            </a:r>
            <a:r>
              <a:rPr b="0" lang="es-ES" sz="2200" spc="-1" strike="noStrike">
                <a:solidFill>
                  <a:srgbClr val="ff0000"/>
                </a:solidFill>
                <a:latin typeface="Verdana"/>
              </a:rPr>
              <a:t>pirámides renale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) por las </a:t>
            </a:r>
            <a:r>
              <a:rPr b="0" lang="es-ES" sz="2200" spc="-1" strike="noStrike">
                <a:solidFill>
                  <a:srgbClr val="ff0000"/>
                </a:solidFill>
                <a:latin typeface="Verdana"/>
              </a:rPr>
              <a:t>columnas renale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0099"/>
                </a:solidFill>
                <a:latin typeface="Verdana"/>
              </a:rPr>
              <a:t>Pelvis rena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 Forma de copa, recoge la orina procedente de los </a:t>
            </a:r>
            <a:r>
              <a:rPr b="0" lang="es-ES" sz="2200" spc="-1" strike="noStrike">
                <a:solidFill>
                  <a:srgbClr val="ff0000"/>
                </a:solidFill>
                <a:latin typeface="Verdana"/>
              </a:rPr>
              <a:t>cálices renale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7" descr="diseccion_rinon"/>
          <p:cNvPicPr/>
          <p:nvPr/>
        </p:nvPicPr>
        <p:blipFill>
          <a:blip r:embed="rId1"/>
          <a:stretch/>
        </p:blipFill>
        <p:spPr>
          <a:xfrm>
            <a:off x="5202360" y="133200"/>
            <a:ext cx="340200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rinon2"/>
          <p:cNvPicPr/>
          <p:nvPr/>
        </p:nvPicPr>
        <p:blipFill>
          <a:blip r:embed="rId2"/>
          <a:stretch/>
        </p:blipFill>
        <p:spPr>
          <a:xfrm>
            <a:off x="4338720" y="2349360"/>
            <a:ext cx="469728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564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6699"/>
                </a:solidFill>
                <a:latin typeface="Garamond"/>
              </a:rPr>
              <a:t>Funciones de los riñone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20" name="Picture 9" descr="rinon4xpiramide"/>
          <p:cNvPicPr/>
          <p:nvPr/>
        </p:nvPicPr>
        <p:blipFill>
          <a:blip r:embed="rId1"/>
          <a:stretch/>
        </p:blipFill>
        <p:spPr>
          <a:xfrm>
            <a:off x="250920" y="981000"/>
            <a:ext cx="3889440" cy="5256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56000" y="981000"/>
            <a:ext cx="4680000" cy="5616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creción de productos metabólicos de desech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gular el equilibrio hídrico y electrolít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gular el equilibrio ácido-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ntetizar eritropoyetina (EPO), hormona que estimula la producción de eritroci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gulación de la presión arterial: produciendo renina, que la aumenta, o regulando el agu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Gluconeogénesis: síntesis de glucosa a partir de aminoáci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7:12:12Z</dcterms:created>
  <dc:creator>Dani</dc:creator>
  <dc:description/>
  <dc:language>en-US</dc:language>
  <cp:lastModifiedBy>Windows User</cp:lastModifiedBy>
  <dcterms:modified xsi:type="dcterms:W3CDTF">2021-08-04T14:26:54Z</dcterms:modified>
  <cp:revision>31</cp:revision>
  <dc:subject/>
  <dc:title>Diapositiva 1</dc:title>
</cp:coreProperties>
</file>