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41.png" ContentType="image/png"/>
  <Override PartName="/ppt/media/image30.jpeg" ContentType="image/jpeg"/>
  <Override PartName="/ppt/media/image32.jpeg" ContentType="image/jpeg"/>
  <Override PartName="/ppt/media/image39.png" ContentType="image/pn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1.jpeg" ContentType="image/jpeg"/>
  <Override PartName="/ppt/media/image25.jpeg" ContentType="image/jpeg"/>
  <Override PartName="/ppt/media/image42.jpeg" ContentType="image/jpeg"/>
  <Override PartName="/ppt/media/image43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11.png" ContentType="image/png"/>
  <Override PartName="/ppt/media/image4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C91B-AC4E-47CA-B9D3-22AF422EB55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0C29-0BED-4116-88AC-F69692978006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BED-E410-48CF-9373-F858B54F559F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97B5-FC91-44C7-B12A-9C22E7C4DECD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6CC-CE5A-4C68-9B51-F0B50758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647-AFEC-4E56-A3BD-29575A8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C136B-54DA-4401-84D3-873829F0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FB279-8691-44B6-BABB-900EF89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EE309-4E8F-47A7-850C-9AD5812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F3D4-5F6D-4CF0-A4BE-7FB8B7B5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2CCD-0504-47CA-AAE6-1F2074F3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8651-F8EF-45CF-8B84-8B7C9DB3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0287-7835-44AE-B5BD-96AFF34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2502-6344-4559-BF7D-B7A1FB66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DC931-8DB0-477B-82A0-051F6EC8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13E62-EEBA-4036-81CC-F56A8D96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A6E-2084-4262-8E1E-AFE568EC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A56CB-EC70-47BA-A7F7-F5D47278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4FE1C-D54F-41D5-B5F9-33DA319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A959-69DB-407F-8B18-0724A03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B5F2-A6CB-4C5D-8046-7D21F52C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00494-462E-468C-8C67-F176FA9B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B3538-7CE4-4031-83C6-3B0D5D64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DA780-43DD-4BFB-836D-140ADD99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F463D-C683-47AA-94EF-08AAEC1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0966-06A2-4AF8-A5A4-954858F8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D1FF8-D0B0-4E68-95B5-3B95C26A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E4B-8223-4AF1-9E88-5465C8DA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5790-E45B-4565-B1EA-68CFCCC1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8BF1D-2E8D-4C31-B861-760FE2D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C8ADC-5B11-4D27-8484-C5F6A8D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63486-95CD-4855-A7F1-4780D1F8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DC5A3-1AF9-4D09-A08D-029ACFB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6DE4-EE77-4779-AFF5-213BCCCB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05ADB-E0E4-475E-ADDA-1D4A4F3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7AE73-D699-48A5-9EF6-6BE637FA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FFBE1-3460-4F65-84A6-8B30A780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68558-F17C-4682-AFD0-AA84F48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944B-424F-472A-A954-FCB509C3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EE9D1-5842-4CE5-B4B5-7C65093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3CC61-99F4-4C3F-BDB1-A6A66D46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F5CA9-08C7-47C8-B13B-5AE97C48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DE05D-37A1-4675-8906-9547CCCC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9250A-C494-4CD8-8B1D-361611FF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E6ADB-9105-4734-A1C4-96B820F1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5D4AC-3A94-4AC5-A146-4D8512B9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4D63-3C80-4468-A905-76A35B9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5CF1-19F2-4E40-B801-DA0029B7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F947B-CB62-4A79-A19F-FFACDA4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01C-D0DB-4EC8-A1B9-D6E1DBAC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5BFF3-695D-4AB8-B3EE-F611D94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15EAF-B4CF-40ED-86F1-B6C4DEBA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BFCAB-B1A6-4DD1-8D33-CA0FD99C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95013-60ED-46D0-9E57-1EB9A3A8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DC767-52BC-4842-83AD-35D1286A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9905A-09DA-4037-86FB-0CAC37ED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9442-7294-485E-ABFC-5162D35D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7585E-7841-4149-838A-02CE8989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A6BEA-8F92-499E-AA06-CC1137BE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82A0-114E-4568-9DD4-A7A1FA6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E2E5-0F73-4312-BACF-B5254758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863CF-AAD4-4B5B-A442-331E869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86C17-29B0-43DC-B24B-A66F3C1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94147-CAC4-44C8-BA1F-A894232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E5D7A-C014-416D-96A6-7959D5F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DD75D-7B1E-4612-9340-014B2414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16359-6343-4308-A00D-8175FFC8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C8B69-800F-48BA-A5F9-BAF23D87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3B99A-890B-4583-9604-4DBDCC3F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9310E-96AA-4EC7-A792-F78DA6EE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52330-B20F-46F9-9D34-8946B6D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9DED-8F25-4177-8E50-6EC8D47B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A152A-D480-4F8F-9A38-C4DC635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AEF1B-BE35-44BD-95DA-85AF18D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6C5D3-7511-48C2-873C-228A965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2C1B2-04A6-4690-88E7-77E575C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D4A9A-C510-4EE3-8189-87C6F2F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7EDD5-7B39-480C-91AE-7AF1A9BE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2AA88-A39C-4AD7-9C87-F22D685E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CED85-5E2C-4832-8FC3-6ACCB660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8FBB0-D57F-48AE-AD1A-68AF5815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7BAB4-BE5D-4F91-BD2A-B63989D0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9320-889A-4637-A264-EB40733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95ABD-82E5-4CB6-A936-FE64F1CA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8E7D7-2A5A-4D97-B54A-119FAB8E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8FB64-C79F-47F8-AD1E-6678D34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CCE09-4BAE-4448-9A26-DC0D1DA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D9AAE-ACDB-45BB-8939-526DC1C8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03ADC-C127-42FB-8C44-17770E0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C166C-B759-426F-AC47-616DA81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F5434-7B7E-4FAA-A9D8-6B5B58A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83564-8864-49F9-BE5F-89CCAE3D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41139-A80C-40B4-9699-FA87BB8C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DD1-8439-4BF5-ACE7-395D543A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A92A2-E216-4296-B16D-F5CF2A27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00684-B56F-4894-8BE9-C00C5255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1544E-297B-4AA0-97EE-8A4A6042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782F0-A9D0-435C-A9B5-F6C9F537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1E5FF-2923-47A0-A411-939ED4B9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7A487-0B9B-420F-ACA9-127805F0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E03F5-6768-4420-8B82-2B96E36D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39165-0433-4628-84BC-62F68E9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8D570-6178-4EF3-BD07-89A30F0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D360C-819B-49B5-AB13-C9F0A674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0C61-D26E-4053-B708-CEC9736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6C305-2877-416F-A41B-B1D3C51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8BEFE-0BC4-4744-AB3E-76403F23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AAA7F-A24A-4700-BE94-B89B00A0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9D3696-FEB4-4631-A353-041E5D1D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3AEB6-E4B3-4562-82F6-C80C2188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B4424-45AB-4A7C-BBCD-1513695E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46905-ED14-4DAC-B6C5-A931F12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ACDB2-5770-4923-A3CC-3C6815C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377E4-8364-4643-8AC3-EE6C358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51580-2EF7-41F2-A137-90138AC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5EA-D820-4A76-9BF7-A148C86E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7C11-4852-4E6E-95F8-306030B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5C7E9-F62E-40CF-B505-76CF0E7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CAD81-5FFB-4418-A65F-3B1682F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6129C-F5A7-4E20-B3D7-A4B164FB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BEDC7-80EF-42E9-9133-B8F740AB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F490C-BFE9-4AC1-BF6B-B25E22B8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57730-EFC4-4769-BC0F-9302A467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A00B9-7136-485C-BC58-57FB4317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9ABE2-330A-4CD2-A416-517EEEBA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66FB0-F58F-4766-B50E-2DACF687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4D936-3DDE-4EE8-B323-84FBDBC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993A-E095-4371-B83D-4C57402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D61CB-6E97-416B-9593-0F98073A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D5865-E77E-4DB5-9F38-A248A81F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E3297-F198-4987-A656-C63DA82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52B39-A90B-4341-B73F-B7B41A6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85D06-D62D-4076-812E-A7B8927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64822-2ADD-4D4E-A32C-4A19F478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F1CD4-88AC-4027-A737-0898BBFD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3A93A-8E97-4373-A569-89BADDE1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897CE-DC5F-4E3F-835C-837A56F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C50D2-DA4B-4A0E-9C94-1B1670E4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BF4C-54B9-489F-97C8-69B781EF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5984E-7B8A-41D0-A9FC-F4FF007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A1DB0-7935-4B72-BAAA-A9A9A86E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56E53-7F53-444B-B54B-9B065164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85295-F780-42F1-B501-A94E27E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090B2-D367-4BAF-8F62-D4002D5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9C4F3-4375-404F-A069-C58369F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F0D1E-304B-4093-8B45-D47C4004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AF33C-B2D6-42C7-A246-2CAA4EBB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9488D-834F-4F02-856A-8DB30107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384F8-0196-46B4-B108-25737AA0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053-B551-4F88-B328-8465A84D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B8ACC9-F85A-4F18-AFC3-A994E76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81674-2F26-4CB3-80E6-77F50D74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8D061-CF76-4E91-AB40-F3461768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26091-6394-4B06-92B5-927EAB4D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892C9-1521-44B4-AEAC-AF9195E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D7720-27A3-4B68-8F8C-EFDF999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4F63C-5615-434C-AB06-B53A8BE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C7265-45F6-4AE1-AF6A-0A107C6D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49DF1-6F2E-4839-AB73-FDCA27E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484CB8-42E1-4A01-A295-A161E3F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54A-414E-4610-B34A-FFEDC9D9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844F3-7C82-4AEB-863B-780BAA7F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BA638-D862-4E03-B064-5E5D7AB6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88670-3891-4F87-9F15-CC02F6E5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7B0BB-98C2-4DBA-A491-E8130D58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E2809-2F64-4AEF-AD01-C3392C2E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3807B-0311-4FC2-A2A5-6842F08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D390F8-BC20-4974-A1D4-C81B584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B3187-437A-4053-BDCD-C6D7A3D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BA4CA-F782-40E8-A837-B229F41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696E9-7718-4854-A0E6-648CE584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81FC-56D7-4508-BF36-6B79D8A4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9430E-3551-42FA-AB82-A584322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9265F-577A-4E8A-BBC4-2EE67162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1B6E1-3763-47DE-945F-44ED21D0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B3A86-0539-4C77-AA00-9A0EB2A9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16C43-0097-4504-AE93-03E25A6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A3A78-866A-4F6A-B18C-1492463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4A1542-07F9-4344-81FE-08F7AC72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DA2D72-8A4C-4441-891E-4DF8A84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D89A1-0452-4988-9763-6AA3979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2087D3-857D-4512-B663-691C164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05B4-EF5E-4BE2-9D74-8770FEC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C5749-259C-4EEA-AB9A-9232F46B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54EEB-5282-4115-B772-F2E7055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1D2DA-F76C-4782-B497-7FE913F9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4AC14-B9C3-480E-B5CA-7E0B15D7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959AAC-05D3-4521-94E5-CE24BC7F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2EF5F5-796F-4594-A636-13D380EA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890BD4-EB32-49D9-935B-7E189D6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E7EB2D-A8AD-4748-BFEE-56AA4983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EDF7E7-2D35-42AB-97CF-5C6ACB5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B2A7E-D021-418C-ADF8-CCA41420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DA1B-DEDD-4448-9CE5-F923FA92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D77D0-5A90-430B-A245-88EED6B3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A9D7D-C5BD-4602-BF2D-809E2599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D225F4-D6A0-4064-A831-233E1F5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50612-77E7-4E16-87B5-C21D785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D76421-FD05-47E4-887D-57AE70B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4A646-882E-440A-A897-B2280280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73F96-16F9-43CA-A234-7EF8E9A6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B18EF1-5E9D-4D2F-AE33-920AC270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AF3EC1-8594-467F-9A0C-837A2E9C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7883E-8402-4278-885F-C141173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9AE4-5389-4EA4-808A-04F731D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B21AAA-6B2B-4DAC-8BF3-5D4A8E1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26ABD-5542-4230-8CD8-802F7A6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5D490A-8FAD-4E2B-91A7-9638538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FFD275-A71F-493D-AB1E-CCAC50B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519F2-FA41-496E-B8B1-B7D49AD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A4A8AF-8945-4A9D-9351-31FD3DF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6E9CE8-086A-41F6-801A-E4A4F005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CF7FD-D12A-44EC-8F3D-F61A5A7C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D849A-F2EA-4CF8-9654-922F1687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44A8E-514D-4F14-AF3D-2740879C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DE44-4BA8-4354-9E7B-1F1F3917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4E36E-89EE-4B74-9D76-3AD1E1E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9B282-1505-46D5-BF98-59615B1D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118E95-E078-48AE-8A17-82066D3D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76FAFE-08C0-4100-8C35-4D23834F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E91B5D-3AA0-4E38-84BA-739D53CF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B6570D-B061-4AB2-8359-3043C91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09B8A-EE4E-46EA-94C6-162FF17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BD93A0-C2AB-4A14-B112-13F72BA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4EC7BC-4D72-4FAF-B6A7-A6C5E90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A9988-1266-40EA-AFF0-1468879B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AF6-137D-46B6-8392-86472237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D0C0-1A87-4FB3-87AB-D252E0C2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90AA7D-E56F-4D3A-805F-03836606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AAE4D-2521-4717-AE94-260467E9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8C807F-5433-4277-93AA-8B1BEB9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E583C1-04BB-409E-A5AB-35DD349E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652940-ED05-4320-9417-F4543C5F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6BA5F-49E8-4C14-A9C6-8767EF43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29E816-66CD-4368-A194-4AAF0C18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8CFA1B-41E2-43EC-AD51-737C1A67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6AEC37-4144-4755-9597-80CF6D1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E6011-D9D9-491E-8B91-C024A85F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5B22-0E87-4AB7-914C-A04548FE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11877C-F940-4399-8CFD-A60AE49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46BE22-17C9-4F41-ABCC-F2CBDCBA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AED7E2-63B6-431D-961C-7B1BA0AA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C99994-0D2D-471D-A523-7772DAEC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0B914D-6BBF-4562-8B1B-AF40D8D9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6D0FE3-D8F1-4F9A-8CF9-953723E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615C19-2929-4E90-95E4-5FE0D6F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0EF31B-DB1C-4C59-B1D1-DB0C0304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7E47C3-9946-4C83-8850-6DCA44F8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774E76-F498-4F32-8635-720CFE71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220E-A01F-4751-87D1-EA105D4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2FAC58-007F-45F8-9344-67DF151F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E5CE67-E947-4D39-BAE2-3A32A15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5F41C3-4545-4359-8488-CBCE0D8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9A5450-2148-41E6-BA95-CC70547D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171E31-FA34-479F-AE8C-F124346F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516D-AACB-42F9-AD10-E6F0D7E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9C3F-AD8A-4053-8E22-61C8275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9FF8-01AB-4FC7-B540-36C9DE7A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9B98-7395-4B29-9291-E0B18022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7FAF-92A1-4834-9708-8B9111EB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3EA8-9BD9-4E39-BDC2-1CB6CB0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1547-9A98-4FCE-BAE8-DDACB4A6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384-E5AE-4224-8878-39FCBA3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5674-6E9B-4D3B-83AA-24ADC61E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2B8C-1088-4099-9745-2EE907D2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2D24-A3FA-47E5-ADDA-CF082426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4DC7-FF87-464F-BD2A-7AEBD4E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64AF-C3BC-458A-B700-9E4628F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4EE8-CA66-4193-AB2C-5F5C174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214F-6266-47F7-B06E-1F7DA0E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977E-DC9C-4926-A1E1-A2144AC9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BA47-5498-43F8-913B-DC0625CC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B2D-C3B1-4871-966F-5824073F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251-91BE-4BAF-9C9B-96BBAB30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E16A-EBD6-4A46-93FF-629D2778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6236-A2F9-4798-A72E-AA58F16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38AD3-077F-4896-A7AA-13F78413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2B87-D807-4C5C-A3EC-09402690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7D6D4-8884-4903-A3B5-651ECED2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2D2C-392F-47D4-A2BD-7A3C3B6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88DA-7DC5-4120-87CF-DACC44D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218C-8D9B-4F06-B7F3-A54B770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6D9D-9703-4989-ABB7-EDE8E599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05F-DA4A-41C6-A5B3-F6E6B924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5E29-6E46-416F-AE60-5D312411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C1FA-14CE-45BE-9908-47E4F43C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0C1D-E92A-4F44-9563-8C1444A4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7D1F-F5A6-42FE-A580-C21DF110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C60F-AB60-404B-BB64-1D24DB4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80EB-4016-4209-B5CA-AD453AA8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B5CB-9ACC-4DEB-884C-5785060F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10E4-0692-410E-96C7-8C7290C7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9945-975E-44F3-B033-ACDA6C4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B643-5F12-4C4F-A2ED-B9EBE34D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B68-B699-473E-B5C5-6C18424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EF21-180F-4509-9A93-B928A86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E2BD-6AE0-4007-9C9C-E24870E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60A7A-B3E2-434A-965E-506DE3ED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555C-4EA3-42D7-8AFA-C98D4459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EE434-51B3-4563-8025-A051503E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F82A-52AE-4878-A3F9-568F7BB6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727A5-516B-4A56-8644-2AEAA46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2B2D7-62B5-4016-A3C3-52709FA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7285-7F52-4574-A0B3-6BFDDA8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02AE-36A1-4C70-B98A-DBD7910C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E44-DCB4-4C1C-8DFC-5CD6E2C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F0DD-66E6-4686-9CC7-9A59DC45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1B71-6E9E-46F3-B953-0D3B4A1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BE7F2-610E-46B5-874F-B2096965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4C349-22FF-4CEC-A11B-6F696F1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9024-652A-4B9C-954E-09F8AD5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7649-932B-420B-9A2B-902AE773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63E9-29D2-4266-BE87-AFCC9C1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FCBF-9AEF-4605-BC7A-994B8AAB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4FD1F-EF11-407F-A9B9-E099CC18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CD11-E3DC-45ED-BDED-9D46E5B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10EC-7DA5-471C-A558-BAA851960C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396-3A5C-4C98-9954-6D5431D883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C6F-3808-4252-8392-263B800939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9C14-1957-438B-948D-228DB17132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C6ED-1E08-44E1-B240-F6BDBB1616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B620-2D90-4607-AE77-7287F735CA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56E2-E302-4F7E-A27B-68596E5697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D379-509D-4FBC-ADBE-CCF536CEABE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A6D-07D2-4D72-A2E1-EF1EBC0551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4808-22FC-4024-970C-AFE6787E743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AAB-0364-4DEA-84CE-E24AB55B1B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38F2-4C76-4649-8212-BCC77C6C53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0B43-3C6C-4134-BCEB-7DCC96A6959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C77A-F619-4BAF-A411-B06F597C39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D03-DC75-43CD-B185-8CDF1168546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3E7E-A7FE-4236-96DE-C8DA4AB0E7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80E-A2E5-485C-94EC-AE48C4C4A6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AA1-50D0-4FF8-BF93-9FE64979A9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219-835D-470D-AD4F-A2640F43A0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E6C-9C5A-4E82-9701-B057F89EF0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21B6-72A7-4EEF-9B5D-D47FC06049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0227-F00E-4872-8831-1670FC4244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Google Shape;134;p3"/>
          <p:cNvSpPr/>
          <p:nvPr/>
        </p:nvSpPr>
        <p:spPr>
          <a:xfrm>
            <a:off x="395280" y="388800"/>
            <a:ext cx="8335800" cy="6383520"/>
          </a:xfrm>
          <a:custGeom>
            <a:avLst/>
            <a:gdLst/>
            <a:ahLst/>
            <a:rect l="l" t="t" r="r" b="b"/>
            <a:pathLst>
              <a:path w="257584" h="146846">
                <a:moveTo>
                  <a:pt x="7146" y="1"/>
                </a:moveTo>
                <a:cubicBezTo>
                  <a:pt x="3214" y="1"/>
                  <a:pt x="1" y="3214"/>
                  <a:pt x="1" y="7146"/>
                </a:cubicBezTo>
                <a:lnTo>
                  <a:pt x="1" y="139700"/>
                </a:lnTo>
                <a:cubicBezTo>
                  <a:pt x="1" y="143632"/>
                  <a:pt x="3214" y="146845"/>
                  <a:pt x="7146" y="146845"/>
                </a:cubicBezTo>
                <a:lnTo>
                  <a:pt x="250438" y="146845"/>
                </a:lnTo>
                <a:cubicBezTo>
                  <a:pt x="254408" y="146845"/>
                  <a:pt x="257584" y="143632"/>
                  <a:pt x="257584" y="139700"/>
                </a:cubicBezTo>
                <a:lnTo>
                  <a:pt x="257584" y="7146"/>
                </a:lnTo>
                <a:cubicBezTo>
                  <a:pt x="257584" y="3214"/>
                  <a:pt x="254408" y="1"/>
                  <a:pt x="250438" y="1"/>
                </a:cubicBezTo>
                <a:lnTo>
                  <a:pt x="7146" y="1"/>
                </a:lnTo>
                <a:close/>
              </a:path>
            </a:pathLst>
          </a:custGeom>
          <a:solidFill>
            <a:srgbClr val="595959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" name="Google Shape;135;p3"/>
          <p:cNvGrpSpPr/>
          <p:nvPr/>
        </p:nvGrpSpPr>
        <p:grpSpPr>
          <a:xfrm>
            <a:off x="395280" y="291960"/>
            <a:ext cx="8520120" cy="6384960"/>
            <a:chOff x="395280" y="291960"/>
            <a:chExt cx="8520120" cy="6384960"/>
          </a:xfrm>
        </p:grpSpPr>
        <p:sp>
          <p:nvSpPr>
            <p:cNvPr id="281" name="Google Shape;136;p3"/>
            <p:cNvSpPr/>
            <p:nvPr/>
          </p:nvSpPr>
          <p:spPr>
            <a:xfrm>
              <a:off x="660600" y="291960"/>
              <a:ext cx="8070120" cy="6384960"/>
            </a:xfrm>
            <a:custGeom>
              <a:avLst/>
              <a:gdLst/>
              <a:ahLst/>
              <a:rect l="l" t="t" r="r" b="b"/>
              <a:pathLst>
                <a:path w="257584" h="146846">
                  <a:moveTo>
                    <a:pt x="7146" y="1"/>
                  </a:moveTo>
                  <a:cubicBezTo>
                    <a:pt x="3214" y="1"/>
                    <a:pt x="1" y="3214"/>
                    <a:pt x="1" y="7146"/>
                  </a:cubicBezTo>
                  <a:lnTo>
                    <a:pt x="1" y="139700"/>
                  </a:lnTo>
                  <a:cubicBezTo>
                    <a:pt x="1" y="143632"/>
                    <a:pt x="3214" y="146845"/>
                    <a:pt x="7146" y="146845"/>
                  </a:cubicBezTo>
                  <a:lnTo>
                    <a:pt x="250438" y="146845"/>
                  </a:lnTo>
                  <a:cubicBezTo>
                    <a:pt x="254408" y="146845"/>
                    <a:pt x="257584" y="143632"/>
                    <a:pt x="257584" y="139700"/>
                  </a:cubicBezTo>
                  <a:lnTo>
                    <a:pt x="257584" y="7146"/>
                  </a:lnTo>
                  <a:cubicBezTo>
                    <a:pt x="257584" y="3214"/>
                    <a:pt x="254408" y="1"/>
                    <a:pt x="250438" y="1"/>
                  </a:cubicBezTo>
                  <a:lnTo>
                    <a:pt x="7146" y="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2" name="Google Shape;137;p3"/>
            <p:cNvGrpSpPr/>
            <p:nvPr/>
          </p:nvGrpSpPr>
          <p:grpSpPr>
            <a:xfrm>
              <a:off x="8342280" y="3042000"/>
              <a:ext cx="569520" cy="507240"/>
              <a:chOff x="8342280" y="3042000"/>
              <a:chExt cx="569520" cy="507240"/>
            </a:xfrm>
          </p:grpSpPr>
          <p:sp>
            <p:nvSpPr>
              <p:cNvPr id="283" name="Google Shape;138;p3"/>
              <p:cNvSpPr/>
              <p:nvPr/>
            </p:nvSpPr>
            <p:spPr>
              <a:xfrm>
                <a:off x="8342280" y="3148200"/>
                <a:ext cx="569520" cy="40104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1"/>
                    </a:moveTo>
                    <a:lnTo>
                      <a:pt x="0" y="9226"/>
                    </a:lnTo>
                    <a:lnTo>
                      <a:pt x="18186" y="9226"/>
                    </a:lnTo>
                    <a:lnTo>
                      <a:pt x="16673" y="4462"/>
                    </a:lnTo>
                    <a:lnTo>
                      <a:pt x="1818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5959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Google Shape;139;p3"/>
              <p:cNvSpPr/>
              <p:nvPr/>
            </p:nvSpPr>
            <p:spPr>
              <a:xfrm>
                <a:off x="8342280" y="3042000"/>
                <a:ext cx="569520" cy="40104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1"/>
                    </a:moveTo>
                    <a:lnTo>
                      <a:pt x="0" y="9226"/>
                    </a:lnTo>
                    <a:lnTo>
                      <a:pt x="18186" y="9226"/>
                    </a:lnTo>
                    <a:lnTo>
                      <a:pt x="16673" y="4462"/>
                    </a:lnTo>
                    <a:lnTo>
                      <a:pt x="1818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5" name="Google Shape;140;p3"/>
            <p:cNvSpPr/>
            <p:nvPr/>
          </p:nvSpPr>
          <p:spPr>
            <a:xfrm>
              <a:off x="8342280" y="5930280"/>
              <a:ext cx="569520" cy="410760"/>
            </a:xfrm>
            <a:custGeom>
              <a:avLst/>
              <a:gdLst/>
              <a:ahLst/>
              <a:rect l="l" t="t" r="r" b="b"/>
              <a:pathLst>
                <a:path w="18186" h="9453">
                  <a:moveTo>
                    <a:pt x="0" y="0"/>
                  </a:moveTo>
                  <a:lnTo>
                    <a:pt x="0" y="9452"/>
                  </a:lnTo>
                  <a:lnTo>
                    <a:pt x="18186" y="9452"/>
                  </a:lnTo>
                  <a:lnTo>
                    <a:pt x="16824" y="4613"/>
                  </a:lnTo>
                  <a:lnTo>
                    <a:pt x="181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595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6" name="Google Shape;141;p3"/>
            <p:cNvGrpSpPr/>
            <p:nvPr/>
          </p:nvGrpSpPr>
          <p:grpSpPr>
            <a:xfrm>
              <a:off x="8342280" y="2294280"/>
              <a:ext cx="569520" cy="507240"/>
              <a:chOff x="8342280" y="2294280"/>
              <a:chExt cx="569520" cy="507240"/>
            </a:xfrm>
          </p:grpSpPr>
          <p:sp>
            <p:nvSpPr>
              <p:cNvPr id="287" name="Google Shape;142;p3"/>
              <p:cNvSpPr/>
              <p:nvPr/>
            </p:nvSpPr>
            <p:spPr>
              <a:xfrm>
                <a:off x="8342280" y="2400840"/>
                <a:ext cx="569160" cy="40068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0"/>
                    </a:moveTo>
                    <a:lnTo>
                      <a:pt x="0" y="9225"/>
                    </a:lnTo>
                    <a:lnTo>
                      <a:pt x="18186" y="9225"/>
                    </a:lnTo>
                    <a:lnTo>
                      <a:pt x="16824" y="4462"/>
                    </a:lnTo>
                    <a:lnTo>
                      <a:pt x="181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5959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Google Shape;143;p3"/>
              <p:cNvSpPr/>
              <p:nvPr/>
            </p:nvSpPr>
            <p:spPr>
              <a:xfrm>
                <a:off x="8342280" y="2294280"/>
                <a:ext cx="569520" cy="40104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0"/>
                    </a:moveTo>
                    <a:lnTo>
                      <a:pt x="0" y="9225"/>
                    </a:lnTo>
                    <a:lnTo>
                      <a:pt x="18186" y="9225"/>
                    </a:lnTo>
                    <a:lnTo>
                      <a:pt x="16824" y="4462"/>
                    </a:lnTo>
                    <a:lnTo>
                      <a:pt x="181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9" name="Google Shape;144;p3"/>
            <p:cNvGrpSpPr/>
            <p:nvPr/>
          </p:nvGrpSpPr>
          <p:grpSpPr>
            <a:xfrm>
              <a:off x="8346960" y="1577520"/>
              <a:ext cx="568440" cy="517320"/>
              <a:chOff x="8346960" y="1577520"/>
              <a:chExt cx="568440" cy="517320"/>
            </a:xfrm>
          </p:grpSpPr>
          <p:sp>
            <p:nvSpPr>
              <p:cNvPr id="290" name="Google Shape;145;p3"/>
              <p:cNvSpPr/>
              <p:nvPr/>
            </p:nvSpPr>
            <p:spPr>
              <a:xfrm>
                <a:off x="8346960" y="1683720"/>
                <a:ext cx="568440" cy="411120"/>
              </a:xfrm>
              <a:custGeom>
                <a:avLst/>
                <a:gdLst/>
                <a:ahLst/>
                <a:rect l="l" t="t" r="r" b="b"/>
                <a:pathLst>
                  <a:path w="18148" h="9453">
                    <a:moveTo>
                      <a:pt x="0" y="0"/>
                    </a:moveTo>
                    <a:lnTo>
                      <a:pt x="0" y="9452"/>
                    </a:lnTo>
                    <a:lnTo>
                      <a:pt x="18148" y="9452"/>
                    </a:lnTo>
                    <a:lnTo>
                      <a:pt x="16787" y="4688"/>
                    </a:lnTo>
                    <a:lnTo>
                      <a:pt x="181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5959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" name="Google Shape;146;p3"/>
              <p:cNvSpPr/>
              <p:nvPr/>
            </p:nvSpPr>
            <p:spPr>
              <a:xfrm>
                <a:off x="8346960" y="1577520"/>
                <a:ext cx="568440" cy="411120"/>
              </a:xfrm>
              <a:custGeom>
                <a:avLst/>
                <a:gdLst/>
                <a:ahLst/>
                <a:rect l="l" t="t" r="r" b="b"/>
                <a:pathLst>
                  <a:path w="18148" h="9453">
                    <a:moveTo>
                      <a:pt x="0" y="0"/>
                    </a:moveTo>
                    <a:lnTo>
                      <a:pt x="0" y="9452"/>
                    </a:lnTo>
                    <a:lnTo>
                      <a:pt x="18148" y="9452"/>
                    </a:lnTo>
                    <a:lnTo>
                      <a:pt x="16787" y="4688"/>
                    </a:lnTo>
                    <a:lnTo>
                      <a:pt x="181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2" name="Google Shape;147;p3"/>
            <p:cNvGrpSpPr/>
            <p:nvPr/>
          </p:nvGrpSpPr>
          <p:grpSpPr>
            <a:xfrm>
              <a:off x="8342280" y="807840"/>
              <a:ext cx="569520" cy="517320"/>
              <a:chOff x="8342280" y="807840"/>
              <a:chExt cx="569520" cy="517320"/>
            </a:xfrm>
          </p:grpSpPr>
          <p:sp>
            <p:nvSpPr>
              <p:cNvPr id="293" name="Google Shape;148;p3"/>
              <p:cNvSpPr/>
              <p:nvPr/>
            </p:nvSpPr>
            <p:spPr>
              <a:xfrm>
                <a:off x="8342280" y="914400"/>
                <a:ext cx="569160" cy="410760"/>
              </a:xfrm>
              <a:custGeom>
                <a:avLst/>
                <a:gdLst/>
                <a:ahLst/>
                <a:rect l="l" t="t" r="r" b="b"/>
                <a:pathLst>
                  <a:path w="18186" h="9453">
                    <a:moveTo>
                      <a:pt x="0" y="0"/>
                    </a:moveTo>
                    <a:lnTo>
                      <a:pt x="0" y="9452"/>
                    </a:lnTo>
                    <a:lnTo>
                      <a:pt x="18186" y="9452"/>
                    </a:lnTo>
                    <a:lnTo>
                      <a:pt x="16824" y="4613"/>
                    </a:lnTo>
                    <a:lnTo>
                      <a:pt x="181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5959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" name="Google Shape;149;p3"/>
              <p:cNvSpPr/>
              <p:nvPr/>
            </p:nvSpPr>
            <p:spPr>
              <a:xfrm>
                <a:off x="8342280" y="807840"/>
                <a:ext cx="569520" cy="411120"/>
              </a:xfrm>
              <a:custGeom>
                <a:avLst/>
                <a:gdLst/>
                <a:ahLst/>
                <a:rect l="l" t="t" r="r" b="b"/>
                <a:pathLst>
                  <a:path w="18186" h="9453">
                    <a:moveTo>
                      <a:pt x="0" y="0"/>
                    </a:moveTo>
                    <a:lnTo>
                      <a:pt x="0" y="9452"/>
                    </a:lnTo>
                    <a:lnTo>
                      <a:pt x="18186" y="9452"/>
                    </a:lnTo>
                    <a:lnTo>
                      <a:pt x="16824" y="4613"/>
                    </a:lnTo>
                    <a:lnTo>
                      <a:pt x="181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5" name="Google Shape;150;p3"/>
            <p:cNvGrpSpPr/>
            <p:nvPr/>
          </p:nvGrpSpPr>
          <p:grpSpPr>
            <a:xfrm>
              <a:off x="8342280" y="3790080"/>
              <a:ext cx="569520" cy="507240"/>
              <a:chOff x="8342280" y="3790080"/>
              <a:chExt cx="569520" cy="507240"/>
            </a:xfrm>
          </p:grpSpPr>
          <p:sp>
            <p:nvSpPr>
              <p:cNvPr id="296" name="Google Shape;151;p3"/>
              <p:cNvSpPr/>
              <p:nvPr/>
            </p:nvSpPr>
            <p:spPr>
              <a:xfrm>
                <a:off x="8342280" y="3896280"/>
                <a:ext cx="569520" cy="40104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1"/>
                    </a:moveTo>
                    <a:lnTo>
                      <a:pt x="0" y="9226"/>
                    </a:lnTo>
                    <a:lnTo>
                      <a:pt x="18186" y="9226"/>
                    </a:lnTo>
                    <a:lnTo>
                      <a:pt x="16673" y="4462"/>
                    </a:lnTo>
                    <a:lnTo>
                      <a:pt x="1818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5959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Google Shape;152;p3"/>
              <p:cNvSpPr/>
              <p:nvPr/>
            </p:nvSpPr>
            <p:spPr>
              <a:xfrm>
                <a:off x="8342280" y="3790080"/>
                <a:ext cx="569520" cy="40104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1"/>
                    </a:moveTo>
                    <a:lnTo>
                      <a:pt x="0" y="9226"/>
                    </a:lnTo>
                    <a:lnTo>
                      <a:pt x="18186" y="9226"/>
                    </a:lnTo>
                    <a:lnTo>
                      <a:pt x="16673" y="4462"/>
                    </a:lnTo>
                    <a:lnTo>
                      <a:pt x="1818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8" name="Google Shape;153;p3"/>
            <p:cNvGrpSpPr/>
            <p:nvPr/>
          </p:nvGrpSpPr>
          <p:grpSpPr>
            <a:xfrm>
              <a:off x="8342280" y="4538160"/>
              <a:ext cx="569520" cy="507240"/>
              <a:chOff x="8342280" y="4538160"/>
              <a:chExt cx="569520" cy="507240"/>
            </a:xfrm>
          </p:grpSpPr>
          <p:sp>
            <p:nvSpPr>
              <p:cNvPr id="299" name="Google Shape;154;p3"/>
              <p:cNvSpPr/>
              <p:nvPr/>
            </p:nvSpPr>
            <p:spPr>
              <a:xfrm>
                <a:off x="8342280" y="4644000"/>
                <a:ext cx="569160" cy="40140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1"/>
                    </a:moveTo>
                    <a:lnTo>
                      <a:pt x="0" y="9226"/>
                    </a:lnTo>
                    <a:lnTo>
                      <a:pt x="18186" y="9226"/>
                    </a:lnTo>
                    <a:lnTo>
                      <a:pt x="16673" y="4462"/>
                    </a:lnTo>
                    <a:lnTo>
                      <a:pt x="1818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5959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Google Shape;155;p3"/>
              <p:cNvSpPr/>
              <p:nvPr/>
            </p:nvSpPr>
            <p:spPr>
              <a:xfrm>
                <a:off x="8342280" y="4538160"/>
                <a:ext cx="569520" cy="400320"/>
              </a:xfrm>
              <a:custGeom>
                <a:avLst/>
                <a:gdLst/>
                <a:ahLst/>
                <a:rect l="l" t="t" r="r" b="b"/>
                <a:pathLst>
                  <a:path w="18186" h="9226">
                    <a:moveTo>
                      <a:pt x="0" y="1"/>
                    </a:moveTo>
                    <a:lnTo>
                      <a:pt x="0" y="9226"/>
                    </a:lnTo>
                    <a:lnTo>
                      <a:pt x="18186" y="9226"/>
                    </a:lnTo>
                    <a:lnTo>
                      <a:pt x="16673" y="4462"/>
                    </a:lnTo>
                    <a:lnTo>
                      <a:pt x="18186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91080" bIns="9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Google Shape;156;p3"/>
            <p:cNvSpPr/>
            <p:nvPr/>
          </p:nvSpPr>
          <p:spPr>
            <a:xfrm>
              <a:off x="8342640" y="5824440"/>
              <a:ext cx="569880" cy="409320"/>
            </a:xfrm>
            <a:custGeom>
              <a:avLst/>
              <a:gdLst/>
              <a:ahLst/>
              <a:rect l="l" t="t" r="r" b="b"/>
              <a:pathLst>
                <a:path w="18186" h="9453">
                  <a:moveTo>
                    <a:pt x="0" y="0"/>
                  </a:moveTo>
                  <a:lnTo>
                    <a:pt x="0" y="9452"/>
                  </a:lnTo>
                  <a:lnTo>
                    <a:pt x="18186" y="9452"/>
                  </a:lnTo>
                  <a:lnTo>
                    <a:pt x="16824" y="4613"/>
                  </a:lnTo>
                  <a:lnTo>
                    <a:pt x="181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Google Shape;157;p3"/>
            <p:cNvSpPr/>
            <p:nvPr/>
          </p:nvSpPr>
          <p:spPr>
            <a:xfrm>
              <a:off x="395280" y="291960"/>
              <a:ext cx="8054640" cy="6384960"/>
            </a:xfrm>
            <a:custGeom>
              <a:avLst/>
              <a:gdLst/>
              <a:ahLst/>
              <a:rect l="l" t="t" r="r" b="b"/>
              <a:pathLst>
                <a:path w="257093" h="146846">
                  <a:moveTo>
                    <a:pt x="7146" y="1"/>
                  </a:moveTo>
                  <a:cubicBezTo>
                    <a:pt x="3177" y="1"/>
                    <a:pt x="1" y="3214"/>
                    <a:pt x="1" y="7146"/>
                  </a:cubicBezTo>
                  <a:lnTo>
                    <a:pt x="1" y="139700"/>
                  </a:lnTo>
                  <a:cubicBezTo>
                    <a:pt x="1" y="143632"/>
                    <a:pt x="3177" y="146845"/>
                    <a:pt x="7146" y="146845"/>
                  </a:cubicBezTo>
                  <a:lnTo>
                    <a:pt x="249947" y="146845"/>
                  </a:lnTo>
                  <a:cubicBezTo>
                    <a:pt x="253879" y="146845"/>
                    <a:pt x="257093" y="143632"/>
                    <a:pt x="257093" y="139700"/>
                  </a:cubicBezTo>
                  <a:lnTo>
                    <a:pt x="257093" y="7146"/>
                  </a:lnTo>
                  <a:cubicBezTo>
                    <a:pt x="257093" y="3214"/>
                    <a:pt x="253879" y="1"/>
                    <a:pt x="249947" y="1"/>
                  </a:cubicBezTo>
                  <a:lnTo>
                    <a:pt x="7146" y="1"/>
                  </a:lnTo>
                  <a:close/>
                </a:path>
              </a:pathLst>
            </a:custGeom>
            <a:solidFill>
              <a:srgbClr val="fcf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3" name="Google Shape;158;p3"/>
          <p:cNvSpPr/>
          <p:nvPr/>
        </p:nvSpPr>
        <p:spPr>
          <a:xfrm>
            <a:off x="546120" y="1255680"/>
            <a:ext cx="79200" cy="176400"/>
          </a:xfrm>
          <a:custGeom>
            <a:avLst/>
            <a:gdLst/>
            <a:ahLst/>
            <a:rect l="l" t="t" r="r" b="b"/>
            <a:pathLst>
              <a:path w="2534" h="4047">
                <a:moveTo>
                  <a:pt x="1286" y="1"/>
                </a:moveTo>
                <a:cubicBezTo>
                  <a:pt x="567" y="1"/>
                  <a:pt x="0" y="908"/>
                  <a:pt x="0" y="2042"/>
                </a:cubicBezTo>
                <a:cubicBezTo>
                  <a:pt x="0" y="3139"/>
                  <a:pt x="567" y="4046"/>
                  <a:pt x="1286" y="4046"/>
                </a:cubicBezTo>
                <a:cubicBezTo>
                  <a:pt x="1966" y="4046"/>
                  <a:pt x="2533" y="3139"/>
                  <a:pt x="2533" y="2042"/>
                </a:cubicBezTo>
                <a:cubicBezTo>
                  <a:pt x="2533" y="908"/>
                  <a:pt x="1966" y="1"/>
                  <a:pt x="1286" y="1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5320" bIns="85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Google Shape;159;p3"/>
          <p:cNvSpPr/>
          <p:nvPr/>
        </p:nvSpPr>
        <p:spPr>
          <a:xfrm>
            <a:off x="281160" y="1289160"/>
            <a:ext cx="323640" cy="109440"/>
          </a:xfrm>
          <a:custGeom>
            <a:avLst/>
            <a:gdLst/>
            <a:ahLst/>
            <a:rect l="l" t="t" r="r" b="b"/>
            <a:pathLst>
              <a:path w="10360" h="2535">
                <a:moveTo>
                  <a:pt x="794" y="1"/>
                </a:moveTo>
                <a:cubicBezTo>
                  <a:pt x="341" y="1"/>
                  <a:pt x="0" y="568"/>
                  <a:pt x="0" y="1286"/>
                </a:cubicBezTo>
                <a:cubicBezTo>
                  <a:pt x="0" y="1967"/>
                  <a:pt x="341" y="2534"/>
                  <a:pt x="794" y="2534"/>
                </a:cubicBezTo>
                <a:lnTo>
                  <a:pt x="9566" y="2534"/>
                </a:lnTo>
                <a:cubicBezTo>
                  <a:pt x="10019" y="2534"/>
                  <a:pt x="10360" y="1967"/>
                  <a:pt x="10360" y="1286"/>
                </a:cubicBezTo>
                <a:cubicBezTo>
                  <a:pt x="10360" y="568"/>
                  <a:pt x="10019" y="1"/>
                  <a:pt x="9566" y="1"/>
                </a:cubicBezTo>
                <a:lnTo>
                  <a:pt x="794" y="1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Google Shape;160;p3"/>
          <p:cNvSpPr/>
          <p:nvPr/>
        </p:nvSpPr>
        <p:spPr>
          <a:xfrm>
            <a:off x="304920" y="139860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0"/>
                </a:moveTo>
                <a:lnTo>
                  <a:pt x="38" y="0"/>
                </a:lnTo>
                <a:lnTo>
                  <a:pt x="102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Google Shape;161;p3"/>
          <p:cNvSpPr/>
          <p:nvPr/>
        </p:nvSpPr>
        <p:spPr>
          <a:xfrm>
            <a:off x="604800" y="134316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Google Shape;162;p3"/>
          <p:cNvSpPr/>
          <p:nvPr/>
        </p:nvSpPr>
        <p:spPr>
          <a:xfrm>
            <a:off x="546120" y="1730520"/>
            <a:ext cx="79200" cy="177480"/>
          </a:xfrm>
          <a:custGeom>
            <a:avLst/>
            <a:gdLst/>
            <a:ahLst/>
            <a:rect l="l" t="t" r="r" b="b"/>
            <a:pathLst>
              <a:path w="2534" h="4084">
                <a:moveTo>
                  <a:pt x="1286" y="0"/>
                </a:moveTo>
                <a:cubicBezTo>
                  <a:pt x="567" y="0"/>
                  <a:pt x="0" y="908"/>
                  <a:pt x="0" y="2042"/>
                </a:cubicBezTo>
                <a:cubicBezTo>
                  <a:pt x="0" y="3176"/>
                  <a:pt x="567" y="4083"/>
                  <a:pt x="1286" y="4083"/>
                </a:cubicBezTo>
                <a:cubicBezTo>
                  <a:pt x="1966" y="4083"/>
                  <a:pt x="2533" y="3176"/>
                  <a:pt x="2533" y="2042"/>
                </a:cubicBezTo>
                <a:cubicBezTo>
                  <a:pt x="2533" y="908"/>
                  <a:pt x="1966" y="0"/>
                  <a:pt x="1286" y="0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6400" bIns="86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Google Shape;163;p3"/>
          <p:cNvSpPr/>
          <p:nvPr/>
        </p:nvSpPr>
        <p:spPr>
          <a:xfrm>
            <a:off x="281160" y="1765440"/>
            <a:ext cx="323640" cy="107640"/>
          </a:xfrm>
          <a:custGeom>
            <a:avLst/>
            <a:gdLst/>
            <a:ahLst/>
            <a:rect l="l" t="t" r="r" b="b"/>
            <a:pathLst>
              <a:path w="10360" h="2496">
                <a:moveTo>
                  <a:pt x="794" y="0"/>
                </a:moveTo>
                <a:cubicBezTo>
                  <a:pt x="341" y="0"/>
                  <a:pt x="0" y="567"/>
                  <a:pt x="0" y="1248"/>
                </a:cubicBezTo>
                <a:cubicBezTo>
                  <a:pt x="0" y="1928"/>
                  <a:pt x="341" y="2495"/>
                  <a:pt x="794" y="2495"/>
                </a:cubicBezTo>
                <a:lnTo>
                  <a:pt x="9566" y="2495"/>
                </a:lnTo>
                <a:cubicBezTo>
                  <a:pt x="10019" y="2495"/>
                  <a:pt x="10360" y="1928"/>
                  <a:pt x="10360" y="1248"/>
                </a:cubicBezTo>
                <a:cubicBezTo>
                  <a:pt x="10360" y="567"/>
                  <a:pt x="10019" y="0"/>
                  <a:pt x="9566" y="0"/>
                </a:cubicBezTo>
                <a:lnTo>
                  <a:pt x="79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Google Shape;164;p3"/>
          <p:cNvSpPr/>
          <p:nvPr/>
        </p:nvSpPr>
        <p:spPr>
          <a:xfrm>
            <a:off x="304920" y="187308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0"/>
                </a:moveTo>
                <a:lnTo>
                  <a:pt x="38" y="0"/>
                </a:lnTo>
                <a:lnTo>
                  <a:pt x="102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Google Shape;165;p3"/>
          <p:cNvSpPr/>
          <p:nvPr/>
        </p:nvSpPr>
        <p:spPr>
          <a:xfrm>
            <a:off x="604800" y="181944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Google Shape;166;p3"/>
          <p:cNvSpPr/>
          <p:nvPr/>
        </p:nvSpPr>
        <p:spPr>
          <a:xfrm>
            <a:off x="282600" y="1779480"/>
            <a:ext cx="322200" cy="93600"/>
          </a:xfrm>
          <a:custGeom>
            <a:avLst/>
            <a:gdLst/>
            <a:ahLst/>
            <a:rect l="l" t="t" r="r" b="b"/>
            <a:pathLst>
              <a:path w="10322" h="2156">
                <a:moveTo>
                  <a:pt x="10057" y="0"/>
                </a:moveTo>
                <a:lnTo>
                  <a:pt x="10057" y="0"/>
                </a:lnTo>
                <a:cubicBezTo>
                  <a:pt x="10095" y="76"/>
                  <a:pt x="10095" y="190"/>
                  <a:pt x="10095" y="303"/>
                </a:cubicBezTo>
                <a:cubicBezTo>
                  <a:pt x="10095" y="983"/>
                  <a:pt x="9755" y="1551"/>
                  <a:pt x="9301" y="1551"/>
                </a:cubicBezTo>
                <a:lnTo>
                  <a:pt x="530" y="1551"/>
                </a:lnTo>
                <a:cubicBezTo>
                  <a:pt x="303" y="1551"/>
                  <a:pt x="114" y="1437"/>
                  <a:pt x="0" y="1210"/>
                </a:cubicBezTo>
                <a:cubicBezTo>
                  <a:pt x="76" y="1740"/>
                  <a:pt x="378" y="2118"/>
                  <a:pt x="719" y="2155"/>
                </a:cubicBezTo>
                <a:lnTo>
                  <a:pt x="9528" y="2155"/>
                </a:lnTo>
                <a:cubicBezTo>
                  <a:pt x="9981" y="2155"/>
                  <a:pt x="10322" y="1588"/>
                  <a:pt x="10322" y="908"/>
                </a:cubicBezTo>
                <a:cubicBezTo>
                  <a:pt x="10322" y="530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Google Shape;167;p3"/>
          <p:cNvSpPr/>
          <p:nvPr/>
        </p:nvSpPr>
        <p:spPr>
          <a:xfrm>
            <a:off x="546120" y="2208240"/>
            <a:ext cx="79200" cy="174600"/>
          </a:xfrm>
          <a:custGeom>
            <a:avLst/>
            <a:gdLst/>
            <a:ahLst/>
            <a:rect l="l" t="t" r="r" b="b"/>
            <a:pathLst>
              <a:path w="2534" h="4046">
                <a:moveTo>
                  <a:pt x="1286" y="0"/>
                </a:moveTo>
                <a:cubicBezTo>
                  <a:pt x="567" y="0"/>
                  <a:pt x="0" y="908"/>
                  <a:pt x="0" y="2004"/>
                </a:cubicBezTo>
                <a:cubicBezTo>
                  <a:pt x="0" y="3138"/>
                  <a:pt x="567" y="4046"/>
                  <a:pt x="1286" y="4046"/>
                </a:cubicBezTo>
                <a:cubicBezTo>
                  <a:pt x="1966" y="4046"/>
                  <a:pt x="2533" y="3138"/>
                  <a:pt x="2533" y="2004"/>
                </a:cubicBezTo>
                <a:cubicBezTo>
                  <a:pt x="2533" y="908"/>
                  <a:pt x="1966" y="0"/>
                  <a:pt x="1286" y="0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3520" bIns="83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Google Shape;168;p3"/>
          <p:cNvSpPr/>
          <p:nvPr/>
        </p:nvSpPr>
        <p:spPr>
          <a:xfrm>
            <a:off x="281160" y="2239920"/>
            <a:ext cx="323640" cy="111240"/>
          </a:xfrm>
          <a:custGeom>
            <a:avLst/>
            <a:gdLst/>
            <a:ahLst/>
            <a:rect l="l" t="t" r="r" b="b"/>
            <a:pathLst>
              <a:path w="10360" h="2534">
                <a:moveTo>
                  <a:pt x="794" y="1"/>
                </a:moveTo>
                <a:cubicBezTo>
                  <a:pt x="341" y="1"/>
                  <a:pt x="0" y="568"/>
                  <a:pt x="0" y="1248"/>
                </a:cubicBezTo>
                <a:cubicBezTo>
                  <a:pt x="0" y="1967"/>
                  <a:pt x="341" y="2534"/>
                  <a:pt x="794" y="2534"/>
                </a:cubicBezTo>
                <a:lnTo>
                  <a:pt x="9566" y="2534"/>
                </a:lnTo>
                <a:cubicBezTo>
                  <a:pt x="10019" y="2534"/>
                  <a:pt x="10360" y="1967"/>
                  <a:pt x="10360" y="1248"/>
                </a:cubicBezTo>
                <a:cubicBezTo>
                  <a:pt x="10360" y="568"/>
                  <a:pt x="10019" y="1"/>
                  <a:pt x="9566" y="1"/>
                </a:cubicBezTo>
                <a:lnTo>
                  <a:pt x="794" y="1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Google Shape;169;p3"/>
          <p:cNvSpPr/>
          <p:nvPr/>
        </p:nvSpPr>
        <p:spPr>
          <a:xfrm>
            <a:off x="304920" y="2349360"/>
            <a:ext cx="31680" cy="1800"/>
          </a:xfrm>
          <a:custGeom>
            <a:avLst/>
            <a:gdLst/>
            <a:ahLst/>
            <a:rect l="l" t="t" r="r" b="b"/>
            <a:pathLst>
              <a:path w="1022" h="39">
                <a:moveTo>
                  <a:pt x="1021" y="39"/>
                </a:moveTo>
                <a:lnTo>
                  <a:pt x="38" y="39"/>
                </a:ln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lnTo>
                  <a:pt x="1021" y="39"/>
                </a:lnTo>
                <a:close/>
                <a:moveTo>
                  <a:pt x="1" y="39"/>
                </a:moveTo>
                <a:lnTo>
                  <a:pt x="1" y="39"/>
                </a:lnTo>
                <a:close/>
                <a:moveTo>
                  <a:pt x="1" y="39"/>
                </a:moveTo>
                <a:lnTo>
                  <a:pt x="1" y="39"/>
                </a:lnTo>
                <a:close/>
                <a:moveTo>
                  <a:pt x="1" y="39"/>
                </a:moveTo>
                <a:lnTo>
                  <a:pt x="1" y="39"/>
                </a:lnTo>
                <a:close/>
                <a:moveTo>
                  <a:pt x="1" y="39"/>
                </a:moveTo>
                <a:cubicBezTo>
                  <a:pt x="1" y="39"/>
                  <a:pt x="1" y="39"/>
                  <a:pt x="1" y="1"/>
                </a:cubicBezTo>
                <a:cubicBezTo>
                  <a:pt x="1" y="39"/>
                  <a:pt x="1" y="39"/>
                  <a:pt x="1" y="39"/>
                </a:cubicBez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89280" bIns="-89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Google Shape;170;p3"/>
          <p:cNvSpPr/>
          <p:nvPr/>
        </p:nvSpPr>
        <p:spPr>
          <a:xfrm>
            <a:off x="604800" y="229536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Google Shape;171;p3"/>
          <p:cNvSpPr/>
          <p:nvPr/>
        </p:nvSpPr>
        <p:spPr>
          <a:xfrm>
            <a:off x="282600" y="2255760"/>
            <a:ext cx="322200" cy="95400"/>
          </a:xfrm>
          <a:custGeom>
            <a:avLst/>
            <a:gdLst/>
            <a:ahLst/>
            <a:rect l="l" t="t" r="r" b="b"/>
            <a:pathLst>
              <a:path w="10322" h="2194">
                <a:moveTo>
                  <a:pt x="10057" y="1"/>
                </a:moveTo>
                <a:cubicBezTo>
                  <a:pt x="10095" y="114"/>
                  <a:pt x="10095" y="228"/>
                  <a:pt x="10095" y="303"/>
                </a:cubicBezTo>
                <a:cubicBezTo>
                  <a:pt x="10095" y="1022"/>
                  <a:pt x="9755" y="1589"/>
                  <a:pt x="9301" y="1589"/>
                </a:cubicBezTo>
                <a:lnTo>
                  <a:pt x="530" y="1589"/>
                </a:lnTo>
                <a:cubicBezTo>
                  <a:pt x="303" y="1589"/>
                  <a:pt x="114" y="1438"/>
                  <a:pt x="0" y="1249"/>
                </a:cubicBezTo>
                <a:cubicBezTo>
                  <a:pt x="76" y="1740"/>
                  <a:pt x="340" y="2156"/>
                  <a:pt x="719" y="2156"/>
                </a:cubicBezTo>
                <a:cubicBezTo>
                  <a:pt x="719" y="2194"/>
                  <a:pt x="719" y="2194"/>
                  <a:pt x="719" y="2194"/>
                </a:cubicBezTo>
                <a:lnTo>
                  <a:pt x="9528" y="2194"/>
                </a:lnTo>
                <a:cubicBezTo>
                  <a:pt x="9981" y="2194"/>
                  <a:pt x="10322" y="1627"/>
                  <a:pt x="10322" y="908"/>
                </a:cubicBezTo>
                <a:cubicBezTo>
                  <a:pt x="10322" y="568"/>
                  <a:pt x="10208" y="228"/>
                  <a:pt x="10057" y="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Google Shape;172;p3"/>
          <p:cNvSpPr/>
          <p:nvPr/>
        </p:nvSpPr>
        <p:spPr>
          <a:xfrm>
            <a:off x="546120" y="2682720"/>
            <a:ext cx="79200" cy="177840"/>
          </a:xfrm>
          <a:custGeom>
            <a:avLst/>
            <a:gdLst/>
            <a:ahLst/>
            <a:rect l="l" t="t" r="r" b="b"/>
            <a:pathLst>
              <a:path w="2534" h="4085">
                <a:moveTo>
                  <a:pt x="1286" y="1"/>
                </a:moveTo>
                <a:cubicBezTo>
                  <a:pt x="567" y="1"/>
                  <a:pt x="0" y="908"/>
                  <a:pt x="0" y="2042"/>
                </a:cubicBezTo>
                <a:cubicBezTo>
                  <a:pt x="0" y="3177"/>
                  <a:pt x="567" y="4084"/>
                  <a:pt x="1286" y="4084"/>
                </a:cubicBezTo>
                <a:cubicBezTo>
                  <a:pt x="1966" y="4084"/>
                  <a:pt x="2533" y="3177"/>
                  <a:pt x="2533" y="2042"/>
                </a:cubicBezTo>
                <a:cubicBezTo>
                  <a:pt x="2533" y="908"/>
                  <a:pt x="1966" y="1"/>
                  <a:pt x="1286" y="1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6760" bIns="86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Google Shape;173;p3"/>
          <p:cNvSpPr/>
          <p:nvPr/>
        </p:nvSpPr>
        <p:spPr>
          <a:xfrm>
            <a:off x="281160" y="2717640"/>
            <a:ext cx="323640" cy="108000"/>
          </a:xfrm>
          <a:custGeom>
            <a:avLst/>
            <a:gdLst/>
            <a:ahLst/>
            <a:rect l="l" t="t" r="r" b="b"/>
            <a:pathLst>
              <a:path w="10360" h="2497">
                <a:moveTo>
                  <a:pt x="794" y="1"/>
                </a:moveTo>
                <a:cubicBezTo>
                  <a:pt x="341" y="1"/>
                  <a:pt x="0" y="568"/>
                  <a:pt x="0" y="1248"/>
                </a:cubicBezTo>
                <a:cubicBezTo>
                  <a:pt x="0" y="1929"/>
                  <a:pt x="341" y="2496"/>
                  <a:pt x="794" y="2496"/>
                </a:cubicBezTo>
                <a:lnTo>
                  <a:pt x="9566" y="2496"/>
                </a:lnTo>
                <a:cubicBezTo>
                  <a:pt x="10019" y="2496"/>
                  <a:pt x="10360" y="1929"/>
                  <a:pt x="10360" y="1248"/>
                </a:cubicBezTo>
                <a:cubicBezTo>
                  <a:pt x="10360" y="568"/>
                  <a:pt x="10019" y="1"/>
                  <a:pt x="9566" y="1"/>
                </a:cubicBezTo>
                <a:lnTo>
                  <a:pt x="794" y="1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Google Shape;174;p3"/>
          <p:cNvSpPr/>
          <p:nvPr/>
        </p:nvSpPr>
        <p:spPr>
          <a:xfrm>
            <a:off x="304920" y="282564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0"/>
                </a:moveTo>
                <a:lnTo>
                  <a:pt x="38" y="0"/>
                </a:lnTo>
                <a:lnTo>
                  <a:pt x="102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Google Shape;175;p3"/>
          <p:cNvSpPr/>
          <p:nvPr/>
        </p:nvSpPr>
        <p:spPr>
          <a:xfrm>
            <a:off x="604800" y="2770200"/>
            <a:ext cx="360" cy="1440"/>
          </a:xfrm>
          <a:custGeom>
            <a:avLst/>
            <a:gdLst/>
            <a:ahLst/>
            <a:rect l="l" t="t" r="r" b="b"/>
            <a:pathLst>
              <a:path w="1" h="39">
                <a:moveTo>
                  <a:pt x="1" y="38"/>
                </a:moveTo>
                <a:lnTo>
                  <a:pt x="1" y="38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89640" bIns="-89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Google Shape;176;p3"/>
          <p:cNvSpPr/>
          <p:nvPr/>
        </p:nvSpPr>
        <p:spPr>
          <a:xfrm>
            <a:off x="282600" y="2732040"/>
            <a:ext cx="322200" cy="93600"/>
          </a:xfrm>
          <a:custGeom>
            <a:avLst/>
            <a:gdLst/>
            <a:ahLst/>
            <a:rect l="l" t="t" r="r" b="b"/>
            <a:pathLst>
              <a:path w="10322" h="2156">
                <a:moveTo>
                  <a:pt x="10057" y="0"/>
                </a:moveTo>
                <a:cubicBezTo>
                  <a:pt x="10095" y="76"/>
                  <a:pt x="10095" y="189"/>
                  <a:pt x="10095" y="303"/>
                </a:cubicBezTo>
                <a:cubicBezTo>
                  <a:pt x="10095" y="983"/>
                  <a:pt x="9755" y="1550"/>
                  <a:pt x="9301" y="1550"/>
                </a:cubicBezTo>
                <a:lnTo>
                  <a:pt x="530" y="1550"/>
                </a:lnTo>
                <a:cubicBezTo>
                  <a:pt x="303" y="1550"/>
                  <a:pt x="114" y="1437"/>
                  <a:pt x="0" y="1210"/>
                </a:cubicBezTo>
                <a:cubicBezTo>
                  <a:pt x="76" y="1739"/>
                  <a:pt x="340" y="2117"/>
                  <a:pt x="719" y="2155"/>
                </a:cubicBezTo>
                <a:lnTo>
                  <a:pt x="9528" y="2155"/>
                </a:lnTo>
                <a:cubicBezTo>
                  <a:pt x="9981" y="2155"/>
                  <a:pt x="10322" y="1588"/>
                  <a:pt x="10322" y="907"/>
                </a:cubicBezTo>
                <a:lnTo>
                  <a:pt x="10322" y="870"/>
                </a:lnTo>
                <a:cubicBezTo>
                  <a:pt x="10322" y="529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Google Shape;177;p3"/>
          <p:cNvSpPr/>
          <p:nvPr/>
        </p:nvSpPr>
        <p:spPr>
          <a:xfrm>
            <a:off x="546120" y="3159000"/>
            <a:ext cx="79200" cy="176400"/>
          </a:xfrm>
          <a:custGeom>
            <a:avLst/>
            <a:gdLst/>
            <a:ahLst/>
            <a:rect l="l" t="t" r="r" b="b"/>
            <a:pathLst>
              <a:path w="2534" h="4046">
                <a:moveTo>
                  <a:pt x="1286" y="0"/>
                </a:moveTo>
                <a:cubicBezTo>
                  <a:pt x="567" y="0"/>
                  <a:pt x="0" y="907"/>
                  <a:pt x="0" y="2004"/>
                </a:cubicBezTo>
                <a:cubicBezTo>
                  <a:pt x="0" y="3138"/>
                  <a:pt x="567" y="4045"/>
                  <a:pt x="1286" y="4045"/>
                </a:cubicBezTo>
                <a:cubicBezTo>
                  <a:pt x="1966" y="4045"/>
                  <a:pt x="2533" y="3138"/>
                  <a:pt x="2533" y="2004"/>
                </a:cubicBezTo>
                <a:cubicBezTo>
                  <a:pt x="2533" y="907"/>
                  <a:pt x="1966" y="0"/>
                  <a:pt x="1286" y="0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5320" bIns="85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Google Shape;178;p3"/>
          <p:cNvSpPr/>
          <p:nvPr/>
        </p:nvSpPr>
        <p:spPr>
          <a:xfrm>
            <a:off x="281160" y="3192480"/>
            <a:ext cx="323640" cy="108000"/>
          </a:xfrm>
          <a:custGeom>
            <a:avLst/>
            <a:gdLst/>
            <a:ahLst/>
            <a:rect l="l" t="t" r="r" b="b"/>
            <a:pathLst>
              <a:path w="10360" h="2496">
                <a:moveTo>
                  <a:pt x="794" y="0"/>
                </a:moveTo>
                <a:cubicBezTo>
                  <a:pt x="341" y="0"/>
                  <a:pt x="0" y="567"/>
                  <a:pt x="0" y="1248"/>
                </a:cubicBezTo>
                <a:cubicBezTo>
                  <a:pt x="0" y="1966"/>
                  <a:pt x="341" y="2495"/>
                  <a:pt x="794" y="2495"/>
                </a:cubicBezTo>
                <a:lnTo>
                  <a:pt x="9566" y="2495"/>
                </a:lnTo>
                <a:cubicBezTo>
                  <a:pt x="10019" y="2495"/>
                  <a:pt x="10360" y="1966"/>
                  <a:pt x="10360" y="1248"/>
                </a:cubicBezTo>
                <a:cubicBezTo>
                  <a:pt x="10360" y="567"/>
                  <a:pt x="10019" y="0"/>
                  <a:pt x="9566" y="0"/>
                </a:cubicBezTo>
                <a:lnTo>
                  <a:pt x="79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Google Shape;179;p3"/>
          <p:cNvSpPr/>
          <p:nvPr/>
        </p:nvSpPr>
        <p:spPr>
          <a:xfrm>
            <a:off x="304920" y="330048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0"/>
                </a:moveTo>
                <a:lnTo>
                  <a:pt x="38" y="0"/>
                </a:lnTo>
                <a:lnTo>
                  <a:pt x="102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Google Shape;180;p3"/>
          <p:cNvSpPr/>
          <p:nvPr/>
        </p:nvSpPr>
        <p:spPr>
          <a:xfrm>
            <a:off x="604800" y="32464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Google Shape;181;p3"/>
          <p:cNvSpPr/>
          <p:nvPr/>
        </p:nvSpPr>
        <p:spPr>
          <a:xfrm>
            <a:off x="282600" y="3206880"/>
            <a:ext cx="322200" cy="93600"/>
          </a:xfrm>
          <a:custGeom>
            <a:avLst/>
            <a:gdLst/>
            <a:ahLst/>
            <a:rect l="l" t="t" r="r" b="b"/>
            <a:pathLst>
              <a:path w="10322" h="2156">
                <a:moveTo>
                  <a:pt x="10057" y="0"/>
                </a:moveTo>
                <a:cubicBezTo>
                  <a:pt x="10095" y="114"/>
                  <a:pt x="10095" y="189"/>
                  <a:pt x="10095" y="303"/>
                </a:cubicBezTo>
                <a:cubicBezTo>
                  <a:pt x="10095" y="1021"/>
                  <a:pt x="9755" y="1551"/>
                  <a:pt x="9301" y="1551"/>
                </a:cubicBezTo>
                <a:lnTo>
                  <a:pt x="530" y="1551"/>
                </a:lnTo>
                <a:cubicBezTo>
                  <a:pt x="303" y="1551"/>
                  <a:pt x="114" y="1437"/>
                  <a:pt x="0" y="1248"/>
                </a:cubicBezTo>
                <a:cubicBezTo>
                  <a:pt x="76" y="1777"/>
                  <a:pt x="378" y="2155"/>
                  <a:pt x="719" y="2155"/>
                </a:cubicBezTo>
                <a:lnTo>
                  <a:pt x="9528" y="2155"/>
                </a:lnTo>
                <a:cubicBezTo>
                  <a:pt x="9981" y="2155"/>
                  <a:pt x="10322" y="1626"/>
                  <a:pt x="10322" y="908"/>
                </a:cubicBezTo>
                <a:cubicBezTo>
                  <a:pt x="10322" y="530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Google Shape;182;p3"/>
          <p:cNvSpPr/>
          <p:nvPr/>
        </p:nvSpPr>
        <p:spPr>
          <a:xfrm>
            <a:off x="546120" y="3633840"/>
            <a:ext cx="79200" cy="176040"/>
          </a:xfrm>
          <a:custGeom>
            <a:avLst/>
            <a:gdLst/>
            <a:ahLst/>
            <a:rect l="l" t="t" r="r" b="b"/>
            <a:pathLst>
              <a:path w="2534" h="4046">
                <a:moveTo>
                  <a:pt x="1286" y="0"/>
                </a:moveTo>
                <a:cubicBezTo>
                  <a:pt x="567" y="0"/>
                  <a:pt x="0" y="908"/>
                  <a:pt x="0" y="2042"/>
                </a:cubicBezTo>
                <a:cubicBezTo>
                  <a:pt x="0" y="3138"/>
                  <a:pt x="567" y="4046"/>
                  <a:pt x="1286" y="4046"/>
                </a:cubicBezTo>
                <a:cubicBezTo>
                  <a:pt x="1966" y="4046"/>
                  <a:pt x="2533" y="3138"/>
                  <a:pt x="2533" y="2042"/>
                </a:cubicBezTo>
                <a:cubicBezTo>
                  <a:pt x="2533" y="908"/>
                  <a:pt x="1966" y="0"/>
                  <a:pt x="1286" y="0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4960" bIns="84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Google Shape;183;p3"/>
          <p:cNvSpPr/>
          <p:nvPr/>
        </p:nvSpPr>
        <p:spPr>
          <a:xfrm>
            <a:off x="281160" y="3668760"/>
            <a:ext cx="323640" cy="109440"/>
          </a:xfrm>
          <a:custGeom>
            <a:avLst/>
            <a:gdLst/>
            <a:ahLst/>
            <a:rect l="l" t="t" r="r" b="b"/>
            <a:pathLst>
              <a:path w="10360" h="2496">
                <a:moveTo>
                  <a:pt x="794" y="0"/>
                </a:moveTo>
                <a:cubicBezTo>
                  <a:pt x="341" y="0"/>
                  <a:pt x="0" y="530"/>
                  <a:pt x="0" y="1248"/>
                </a:cubicBezTo>
                <a:cubicBezTo>
                  <a:pt x="0" y="1929"/>
                  <a:pt x="341" y="2496"/>
                  <a:pt x="794" y="2496"/>
                </a:cubicBezTo>
                <a:lnTo>
                  <a:pt x="9566" y="2496"/>
                </a:lnTo>
                <a:cubicBezTo>
                  <a:pt x="10019" y="2496"/>
                  <a:pt x="10360" y="1929"/>
                  <a:pt x="10360" y="1248"/>
                </a:cubicBezTo>
                <a:cubicBezTo>
                  <a:pt x="10360" y="530"/>
                  <a:pt x="10019" y="0"/>
                  <a:pt x="9566" y="0"/>
                </a:cubicBezTo>
                <a:lnTo>
                  <a:pt x="79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Google Shape;184;p3"/>
          <p:cNvSpPr/>
          <p:nvPr/>
        </p:nvSpPr>
        <p:spPr>
          <a:xfrm>
            <a:off x="304920" y="3776760"/>
            <a:ext cx="31680" cy="144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1"/>
                </a:moveTo>
                <a:lnTo>
                  <a:pt x="38" y="1"/>
                </a:lnTo>
                <a:lnTo>
                  <a:pt x="102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89640" bIns="-89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Google Shape;185;p3"/>
          <p:cNvSpPr/>
          <p:nvPr/>
        </p:nvSpPr>
        <p:spPr>
          <a:xfrm>
            <a:off x="604800" y="3720960"/>
            <a:ext cx="360" cy="1800"/>
          </a:xfrm>
          <a:custGeom>
            <a:avLst/>
            <a:gdLst/>
            <a:ahLst/>
            <a:rect l="l" t="t" r="r" b="b"/>
            <a:pathLst>
              <a:path w="1" h="39">
                <a:moveTo>
                  <a:pt x="1" y="38"/>
                </a:moveTo>
                <a:lnTo>
                  <a:pt x="1" y="38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89280" bIns="-89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Google Shape;186;p3"/>
          <p:cNvSpPr/>
          <p:nvPr/>
        </p:nvSpPr>
        <p:spPr>
          <a:xfrm>
            <a:off x="282600" y="3681360"/>
            <a:ext cx="322200" cy="96840"/>
          </a:xfrm>
          <a:custGeom>
            <a:avLst/>
            <a:gdLst/>
            <a:ahLst/>
            <a:rect l="l" t="t" r="r" b="b"/>
            <a:pathLst>
              <a:path w="10322" h="2194">
                <a:moveTo>
                  <a:pt x="10057" y="1"/>
                </a:moveTo>
                <a:cubicBezTo>
                  <a:pt x="10095" y="114"/>
                  <a:pt x="10095" y="228"/>
                  <a:pt x="10095" y="341"/>
                </a:cubicBezTo>
                <a:cubicBezTo>
                  <a:pt x="10095" y="1022"/>
                  <a:pt x="9755" y="1589"/>
                  <a:pt x="9301" y="1589"/>
                </a:cubicBezTo>
                <a:lnTo>
                  <a:pt x="530" y="1589"/>
                </a:lnTo>
                <a:cubicBezTo>
                  <a:pt x="303" y="1589"/>
                  <a:pt x="114" y="1475"/>
                  <a:pt x="0" y="1248"/>
                </a:cubicBezTo>
                <a:cubicBezTo>
                  <a:pt x="76" y="1778"/>
                  <a:pt x="340" y="2156"/>
                  <a:pt x="719" y="2194"/>
                </a:cubicBezTo>
                <a:lnTo>
                  <a:pt x="9528" y="2194"/>
                </a:lnTo>
                <a:cubicBezTo>
                  <a:pt x="9981" y="2194"/>
                  <a:pt x="10322" y="1627"/>
                  <a:pt x="10322" y="946"/>
                </a:cubicBezTo>
                <a:lnTo>
                  <a:pt x="10322" y="908"/>
                </a:lnTo>
                <a:cubicBezTo>
                  <a:pt x="10322" y="568"/>
                  <a:pt x="10208" y="228"/>
                  <a:pt x="10057" y="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Google Shape;187;p3"/>
          <p:cNvSpPr/>
          <p:nvPr/>
        </p:nvSpPr>
        <p:spPr>
          <a:xfrm>
            <a:off x="546120" y="4111560"/>
            <a:ext cx="79200" cy="176400"/>
          </a:xfrm>
          <a:custGeom>
            <a:avLst/>
            <a:gdLst/>
            <a:ahLst/>
            <a:rect l="l" t="t" r="r" b="b"/>
            <a:pathLst>
              <a:path w="2534" h="4047">
                <a:moveTo>
                  <a:pt x="1286" y="1"/>
                </a:moveTo>
                <a:cubicBezTo>
                  <a:pt x="567" y="1"/>
                  <a:pt x="0" y="908"/>
                  <a:pt x="0" y="2004"/>
                </a:cubicBezTo>
                <a:cubicBezTo>
                  <a:pt x="0" y="3139"/>
                  <a:pt x="567" y="4046"/>
                  <a:pt x="1286" y="4046"/>
                </a:cubicBezTo>
                <a:cubicBezTo>
                  <a:pt x="1966" y="4046"/>
                  <a:pt x="2533" y="3139"/>
                  <a:pt x="2533" y="2004"/>
                </a:cubicBezTo>
                <a:cubicBezTo>
                  <a:pt x="2533" y="908"/>
                  <a:pt x="1966" y="1"/>
                  <a:pt x="1286" y="1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5320" bIns="85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Google Shape;188;p3"/>
          <p:cNvSpPr/>
          <p:nvPr/>
        </p:nvSpPr>
        <p:spPr>
          <a:xfrm>
            <a:off x="281160" y="4143240"/>
            <a:ext cx="323640" cy="109800"/>
          </a:xfrm>
          <a:custGeom>
            <a:avLst/>
            <a:gdLst/>
            <a:ahLst/>
            <a:rect l="l" t="t" r="r" b="b"/>
            <a:pathLst>
              <a:path w="10360" h="2497">
                <a:moveTo>
                  <a:pt x="794" y="1"/>
                </a:moveTo>
                <a:cubicBezTo>
                  <a:pt x="341" y="1"/>
                  <a:pt x="0" y="568"/>
                  <a:pt x="0" y="1248"/>
                </a:cubicBezTo>
                <a:cubicBezTo>
                  <a:pt x="0" y="1929"/>
                  <a:pt x="341" y="2496"/>
                  <a:pt x="794" y="2496"/>
                </a:cubicBezTo>
                <a:lnTo>
                  <a:pt x="9566" y="2496"/>
                </a:lnTo>
                <a:cubicBezTo>
                  <a:pt x="10019" y="2496"/>
                  <a:pt x="10360" y="1929"/>
                  <a:pt x="10360" y="1248"/>
                </a:cubicBezTo>
                <a:cubicBezTo>
                  <a:pt x="10360" y="568"/>
                  <a:pt x="10019" y="1"/>
                  <a:pt x="9566" y="1"/>
                </a:cubicBezTo>
                <a:lnTo>
                  <a:pt x="794" y="1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Google Shape;189;p3"/>
          <p:cNvSpPr/>
          <p:nvPr/>
        </p:nvSpPr>
        <p:spPr>
          <a:xfrm>
            <a:off x="304920" y="425304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0"/>
                </a:moveTo>
                <a:lnTo>
                  <a:pt x="38" y="0"/>
                </a:lnTo>
                <a:lnTo>
                  <a:pt x="102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Google Shape;190;p3"/>
          <p:cNvSpPr/>
          <p:nvPr/>
        </p:nvSpPr>
        <p:spPr>
          <a:xfrm>
            <a:off x="604800" y="419904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Google Shape;191;p3"/>
          <p:cNvSpPr/>
          <p:nvPr/>
        </p:nvSpPr>
        <p:spPr>
          <a:xfrm>
            <a:off x="282600" y="4159080"/>
            <a:ext cx="322200" cy="93960"/>
          </a:xfrm>
          <a:custGeom>
            <a:avLst/>
            <a:gdLst/>
            <a:ahLst/>
            <a:rect l="l" t="t" r="r" b="b"/>
            <a:pathLst>
              <a:path w="10322" h="2156">
                <a:moveTo>
                  <a:pt x="10057" y="0"/>
                </a:moveTo>
                <a:cubicBezTo>
                  <a:pt x="10095" y="113"/>
                  <a:pt x="10095" y="189"/>
                  <a:pt x="10095" y="302"/>
                </a:cubicBezTo>
                <a:cubicBezTo>
                  <a:pt x="10095" y="1021"/>
                  <a:pt x="9755" y="1550"/>
                  <a:pt x="9301" y="1550"/>
                </a:cubicBezTo>
                <a:lnTo>
                  <a:pt x="530" y="1550"/>
                </a:lnTo>
                <a:cubicBezTo>
                  <a:pt x="303" y="1550"/>
                  <a:pt x="114" y="1437"/>
                  <a:pt x="0" y="1248"/>
                </a:cubicBezTo>
                <a:cubicBezTo>
                  <a:pt x="76" y="1739"/>
                  <a:pt x="340" y="2155"/>
                  <a:pt x="719" y="2155"/>
                </a:cubicBezTo>
                <a:lnTo>
                  <a:pt x="9528" y="2155"/>
                </a:lnTo>
                <a:cubicBezTo>
                  <a:pt x="9981" y="2155"/>
                  <a:pt x="10322" y="1588"/>
                  <a:pt x="10322" y="907"/>
                </a:cubicBezTo>
                <a:cubicBezTo>
                  <a:pt x="10322" y="529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Google Shape;192;p3"/>
          <p:cNvSpPr/>
          <p:nvPr/>
        </p:nvSpPr>
        <p:spPr>
          <a:xfrm>
            <a:off x="546120" y="4586400"/>
            <a:ext cx="79200" cy="176040"/>
          </a:xfrm>
          <a:custGeom>
            <a:avLst/>
            <a:gdLst/>
            <a:ahLst/>
            <a:rect l="l" t="t" r="r" b="b"/>
            <a:pathLst>
              <a:path w="2534" h="4046">
                <a:moveTo>
                  <a:pt x="1286" y="0"/>
                </a:moveTo>
                <a:cubicBezTo>
                  <a:pt x="567" y="0"/>
                  <a:pt x="0" y="907"/>
                  <a:pt x="0" y="2042"/>
                </a:cubicBezTo>
                <a:cubicBezTo>
                  <a:pt x="0" y="3138"/>
                  <a:pt x="567" y="4045"/>
                  <a:pt x="1286" y="4045"/>
                </a:cubicBezTo>
                <a:cubicBezTo>
                  <a:pt x="1966" y="4045"/>
                  <a:pt x="2533" y="3138"/>
                  <a:pt x="2533" y="2042"/>
                </a:cubicBezTo>
                <a:cubicBezTo>
                  <a:pt x="2533" y="907"/>
                  <a:pt x="1966" y="0"/>
                  <a:pt x="1286" y="0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4960" bIns="84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Google Shape;193;p3"/>
          <p:cNvSpPr/>
          <p:nvPr/>
        </p:nvSpPr>
        <p:spPr>
          <a:xfrm>
            <a:off x="281160" y="4621320"/>
            <a:ext cx="323640" cy="108000"/>
          </a:xfrm>
          <a:custGeom>
            <a:avLst/>
            <a:gdLst/>
            <a:ahLst/>
            <a:rect l="l" t="t" r="r" b="b"/>
            <a:pathLst>
              <a:path w="10360" h="2497">
                <a:moveTo>
                  <a:pt x="794" y="1"/>
                </a:moveTo>
                <a:cubicBezTo>
                  <a:pt x="341" y="1"/>
                  <a:pt x="0" y="530"/>
                  <a:pt x="0" y="1249"/>
                </a:cubicBezTo>
                <a:cubicBezTo>
                  <a:pt x="0" y="1929"/>
                  <a:pt x="341" y="2496"/>
                  <a:pt x="794" y="2496"/>
                </a:cubicBezTo>
                <a:lnTo>
                  <a:pt x="9566" y="2496"/>
                </a:lnTo>
                <a:cubicBezTo>
                  <a:pt x="10019" y="2496"/>
                  <a:pt x="10360" y="1929"/>
                  <a:pt x="10360" y="1249"/>
                </a:cubicBezTo>
                <a:cubicBezTo>
                  <a:pt x="10360" y="530"/>
                  <a:pt x="10019" y="1"/>
                  <a:pt x="9566" y="1"/>
                </a:cubicBezTo>
                <a:lnTo>
                  <a:pt x="794" y="1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Google Shape;194;p3"/>
          <p:cNvSpPr/>
          <p:nvPr/>
        </p:nvSpPr>
        <p:spPr>
          <a:xfrm>
            <a:off x="304920" y="472932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0"/>
                </a:moveTo>
                <a:lnTo>
                  <a:pt x="38" y="0"/>
                </a:lnTo>
                <a:lnTo>
                  <a:pt x="102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Google Shape;195;p3"/>
          <p:cNvSpPr/>
          <p:nvPr/>
        </p:nvSpPr>
        <p:spPr>
          <a:xfrm>
            <a:off x="604800" y="467352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Google Shape;196;p3"/>
          <p:cNvSpPr/>
          <p:nvPr/>
        </p:nvSpPr>
        <p:spPr>
          <a:xfrm>
            <a:off x="282600" y="4633920"/>
            <a:ext cx="322200" cy="95400"/>
          </a:xfrm>
          <a:custGeom>
            <a:avLst/>
            <a:gdLst/>
            <a:ahLst/>
            <a:rect l="l" t="t" r="r" b="b"/>
            <a:pathLst>
              <a:path w="10322" h="2194">
                <a:moveTo>
                  <a:pt x="10057" y="0"/>
                </a:moveTo>
                <a:lnTo>
                  <a:pt x="10057" y="0"/>
                </a:lnTo>
                <a:cubicBezTo>
                  <a:pt x="10095" y="114"/>
                  <a:pt x="10095" y="227"/>
                  <a:pt x="10095" y="341"/>
                </a:cubicBezTo>
                <a:cubicBezTo>
                  <a:pt x="10095" y="1021"/>
                  <a:pt x="9755" y="1588"/>
                  <a:pt x="9301" y="1588"/>
                </a:cubicBezTo>
                <a:lnTo>
                  <a:pt x="530" y="1588"/>
                </a:lnTo>
                <a:cubicBezTo>
                  <a:pt x="303" y="1588"/>
                  <a:pt x="114" y="1437"/>
                  <a:pt x="0" y="1248"/>
                </a:cubicBezTo>
                <a:cubicBezTo>
                  <a:pt x="76" y="1777"/>
                  <a:pt x="340" y="2155"/>
                  <a:pt x="719" y="2193"/>
                </a:cubicBezTo>
                <a:lnTo>
                  <a:pt x="9528" y="2193"/>
                </a:lnTo>
                <a:cubicBezTo>
                  <a:pt x="9981" y="2193"/>
                  <a:pt x="10322" y="1626"/>
                  <a:pt x="10322" y="946"/>
                </a:cubicBezTo>
                <a:lnTo>
                  <a:pt x="10322" y="908"/>
                </a:lnTo>
                <a:cubicBezTo>
                  <a:pt x="10322" y="568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Google Shape;197;p3"/>
          <p:cNvSpPr/>
          <p:nvPr/>
        </p:nvSpPr>
        <p:spPr>
          <a:xfrm>
            <a:off x="546120" y="5060880"/>
            <a:ext cx="79200" cy="177840"/>
          </a:xfrm>
          <a:custGeom>
            <a:avLst/>
            <a:gdLst/>
            <a:ahLst/>
            <a:rect l="l" t="t" r="r" b="b"/>
            <a:pathLst>
              <a:path w="2534" h="4084">
                <a:moveTo>
                  <a:pt x="1286" y="0"/>
                </a:moveTo>
                <a:cubicBezTo>
                  <a:pt x="567" y="0"/>
                  <a:pt x="0" y="908"/>
                  <a:pt x="0" y="2042"/>
                </a:cubicBezTo>
                <a:cubicBezTo>
                  <a:pt x="0" y="3176"/>
                  <a:pt x="567" y="4084"/>
                  <a:pt x="1286" y="4084"/>
                </a:cubicBezTo>
                <a:cubicBezTo>
                  <a:pt x="1966" y="4084"/>
                  <a:pt x="2533" y="3176"/>
                  <a:pt x="2533" y="2042"/>
                </a:cubicBezTo>
                <a:cubicBezTo>
                  <a:pt x="2533" y="908"/>
                  <a:pt x="1966" y="0"/>
                  <a:pt x="1286" y="0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6760" bIns="86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Google Shape;198;p3"/>
          <p:cNvSpPr/>
          <p:nvPr/>
        </p:nvSpPr>
        <p:spPr>
          <a:xfrm>
            <a:off x="281160" y="5095800"/>
            <a:ext cx="323640" cy="108000"/>
          </a:xfrm>
          <a:custGeom>
            <a:avLst/>
            <a:gdLst/>
            <a:ahLst/>
            <a:rect l="l" t="t" r="r" b="b"/>
            <a:pathLst>
              <a:path w="10360" h="2496">
                <a:moveTo>
                  <a:pt x="794" y="0"/>
                </a:moveTo>
                <a:cubicBezTo>
                  <a:pt x="341" y="0"/>
                  <a:pt x="0" y="567"/>
                  <a:pt x="0" y="1248"/>
                </a:cubicBezTo>
                <a:cubicBezTo>
                  <a:pt x="0" y="1929"/>
                  <a:pt x="341" y="2496"/>
                  <a:pt x="794" y="2496"/>
                </a:cubicBezTo>
                <a:lnTo>
                  <a:pt x="9566" y="2496"/>
                </a:lnTo>
                <a:cubicBezTo>
                  <a:pt x="10019" y="2496"/>
                  <a:pt x="10360" y="1929"/>
                  <a:pt x="10360" y="1248"/>
                </a:cubicBezTo>
                <a:cubicBezTo>
                  <a:pt x="10360" y="567"/>
                  <a:pt x="10019" y="0"/>
                  <a:pt x="9566" y="0"/>
                </a:cubicBezTo>
                <a:lnTo>
                  <a:pt x="794" y="0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Google Shape;199;p3"/>
          <p:cNvSpPr/>
          <p:nvPr/>
        </p:nvSpPr>
        <p:spPr>
          <a:xfrm>
            <a:off x="304920" y="520380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1"/>
                </a:moveTo>
                <a:lnTo>
                  <a:pt x="38" y="1"/>
                </a:lnTo>
                <a:lnTo>
                  <a:pt x="1021" y="1"/>
                </a:lnTo>
                <a:close/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Google Shape;200;p3"/>
          <p:cNvSpPr/>
          <p:nvPr/>
        </p:nvSpPr>
        <p:spPr>
          <a:xfrm>
            <a:off x="604800" y="514980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Google Shape;201;p3"/>
          <p:cNvSpPr/>
          <p:nvPr/>
        </p:nvSpPr>
        <p:spPr>
          <a:xfrm>
            <a:off x="282600" y="5110200"/>
            <a:ext cx="322200" cy="93600"/>
          </a:xfrm>
          <a:custGeom>
            <a:avLst/>
            <a:gdLst/>
            <a:ahLst/>
            <a:rect l="l" t="t" r="r" b="b"/>
            <a:pathLst>
              <a:path w="10322" h="2156">
                <a:moveTo>
                  <a:pt x="10057" y="1"/>
                </a:moveTo>
                <a:lnTo>
                  <a:pt x="10057" y="1"/>
                </a:lnTo>
                <a:cubicBezTo>
                  <a:pt x="10095" y="76"/>
                  <a:pt x="10095" y="190"/>
                  <a:pt x="10095" y="303"/>
                </a:cubicBezTo>
                <a:cubicBezTo>
                  <a:pt x="10095" y="984"/>
                  <a:pt x="9755" y="1551"/>
                  <a:pt x="9301" y="1551"/>
                </a:cubicBezTo>
                <a:lnTo>
                  <a:pt x="530" y="1551"/>
                </a:lnTo>
                <a:cubicBezTo>
                  <a:pt x="303" y="1551"/>
                  <a:pt x="114" y="1437"/>
                  <a:pt x="0" y="1210"/>
                </a:cubicBezTo>
                <a:cubicBezTo>
                  <a:pt x="76" y="1740"/>
                  <a:pt x="340" y="2118"/>
                  <a:pt x="719" y="2156"/>
                </a:cubicBezTo>
                <a:lnTo>
                  <a:pt x="9528" y="2156"/>
                </a:lnTo>
                <a:cubicBezTo>
                  <a:pt x="9981" y="2156"/>
                  <a:pt x="10322" y="1589"/>
                  <a:pt x="10322" y="908"/>
                </a:cubicBezTo>
                <a:cubicBezTo>
                  <a:pt x="10322" y="530"/>
                  <a:pt x="10208" y="227"/>
                  <a:pt x="10057" y="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Google Shape;202;p3"/>
          <p:cNvSpPr/>
          <p:nvPr/>
        </p:nvSpPr>
        <p:spPr>
          <a:xfrm>
            <a:off x="546120" y="5537160"/>
            <a:ext cx="79200" cy="176400"/>
          </a:xfrm>
          <a:custGeom>
            <a:avLst/>
            <a:gdLst/>
            <a:ahLst/>
            <a:rect l="l" t="t" r="r" b="b"/>
            <a:pathLst>
              <a:path w="2534" h="4047">
                <a:moveTo>
                  <a:pt x="1286" y="1"/>
                </a:moveTo>
                <a:cubicBezTo>
                  <a:pt x="567" y="1"/>
                  <a:pt x="0" y="908"/>
                  <a:pt x="0" y="2042"/>
                </a:cubicBezTo>
                <a:cubicBezTo>
                  <a:pt x="0" y="3139"/>
                  <a:pt x="567" y="4046"/>
                  <a:pt x="1286" y="4046"/>
                </a:cubicBezTo>
                <a:cubicBezTo>
                  <a:pt x="1966" y="4046"/>
                  <a:pt x="2533" y="3139"/>
                  <a:pt x="2533" y="2042"/>
                </a:cubicBezTo>
                <a:cubicBezTo>
                  <a:pt x="2533" y="908"/>
                  <a:pt x="1966" y="1"/>
                  <a:pt x="1286" y="1"/>
                </a:cubicBezTo>
                <a:close/>
              </a:path>
            </a:pathLst>
          </a:custGeom>
          <a:solidFill>
            <a:srgbClr val="e2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85320" bIns="85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Google Shape;203;p3"/>
          <p:cNvSpPr/>
          <p:nvPr/>
        </p:nvSpPr>
        <p:spPr>
          <a:xfrm>
            <a:off x="281160" y="5570640"/>
            <a:ext cx="323640" cy="110880"/>
          </a:xfrm>
          <a:custGeom>
            <a:avLst/>
            <a:gdLst/>
            <a:ahLst/>
            <a:rect l="l" t="t" r="r" b="b"/>
            <a:pathLst>
              <a:path w="10360" h="2534">
                <a:moveTo>
                  <a:pt x="794" y="1"/>
                </a:moveTo>
                <a:cubicBezTo>
                  <a:pt x="341" y="1"/>
                  <a:pt x="0" y="568"/>
                  <a:pt x="0" y="1286"/>
                </a:cubicBezTo>
                <a:cubicBezTo>
                  <a:pt x="0" y="1967"/>
                  <a:pt x="341" y="2534"/>
                  <a:pt x="794" y="2534"/>
                </a:cubicBezTo>
                <a:lnTo>
                  <a:pt x="9566" y="2534"/>
                </a:lnTo>
                <a:cubicBezTo>
                  <a:pt x="10019" y="2534"/>
                  <a:pt x="10360" y="1967"/>
                  <a:pt x="10360" y="1286"/>
                </a:cubicBezTo>
                <a:cubicBezTo>
                  <a:pt x="10360" y="568"/>
                  <a:pt x="10019" y="1"/>
                  <a:pt x="9566" y="1"/>
                </a:cubicBezTo>
                <a:lnTo>
                  <a:pt x="794" y="1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Google Shape;204;p3"/>
          <p:cNvSpPr/>
          <p:nvPr/>
        </p:nvSpPr>
        <p:spPr>
          <a:xfrm>
            <a:off x="304920" y="5681520"/>
            <a:ext cx="31680" cy="360"/>
          </a:xfrm>
          <a:custGeom>
            <a:avLst/>
            <a:gdLst/>
            <a:ahLst/>
            <a:rect l="l" t="t" r="r" b="b"/>
            <a:pathLst>
              <a:path w="1022" h="1">
                <a:moveTo>
                  <a:pt x="1021" y="1"/>
                </a:moveTo>
                <a:lnTo>
                  <a:pt x="38" y="1"/>
                </a:lnTo>
                <a:lnTo>
                  <a:pt x="102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lnTo>
                  <a:pt x="1" y="1"/>
                </a:lnTo>
                <a:close/>
                <a:moveTo>
                  <a:pt x="1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lose/>
                <a:moveTo>
                  <a:pt x="1" y="1"/>
                </a:moveTo>
                <a:lnTo>
                  <a:pt x="1" y="1"/>
                </a:lnTo>
                <a:close/>
              </a:path>
            </a:pathLst>
          </a:custGeom>
          <a:solidFill>
            <a:srgbClr val="6c2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Google Shape;205;p3"/>
          <p:cNvSpPr/>
          <p:nvPr/>
        </p:nvSpPr>
        <p:spPr>
          <a:xfrm>
            <a:off x="604800" y="562464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close/>
                <a:moveTo>
                  <a:pt x="1" y="0"/>
                </a:moveTo>
                <a:lnTo>
                  <a:pt x="1" y="0"/>
                </a:lnTo>
                <a:close/>
              </a:path>
            </a:pathLst>
          </a:custGeom>
          <a:solidFill>
            <a:srgbClr val="bea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90720" bIns="-90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Google Shape;206;p3"/>
          <p:cNvSpPr/>
          <p:nvPr/>
        </p:nvSpPr>
        <p:spPr>
          <a:xfrm>
            <a:off x="282600" y="5584680"/>
            <a:ext cx="322200" cy="96840"/>
          </a:xfrm>
          <a:custGeom>
            <a:avLst/>
            <a:gdLst/>
            <a:ahLst/>
            <a:rect l="l" t="t" r="r" b="b"/>
            <a:pathLst>
              <a:path w="10322" h="2193">
                <a:moveTo>
                  <a:pt x="10057" y="0"/>
                </a:moveTo>
                <a:lnTo>
                  <a:pt x="10057" y="0"/>
                </a:lnTo>
                <a:cubicBezTo>
                  <a:pt x="10095" y="113"/>
                  <a:pt x="10095" y="227"/>
                  <a:pt x="10095" y="340"/>
                </a:cubicBezTo>
                <a:cubicBezTo>
                  <a:pt x="10095" y="1021"/>
                  <a:pt x="9755" y="1588"/>
                  <a:pt x="9301" y="1588"/>
                </a:cubicBezTo>
                <a:lnTo>
                  <a:pt x="530" y="1588"/>
                </a:lnTo>
                <a:cubicBezTo>
                  <a:pt x="303" y="1588"/>
                  <a:pt x="114" y="1437"/>
                  <a:pt x="0" y="1248"/>
                </a:cubicBezTo>
                <a:cubicBezTo>
                  <a:pt x="76" y="1777"/>
                  <a:pt x="378" y="2155"/>
                  <a:pt x="719" y="2193"/>
                </a:cubicBezTo>
                <a:lnTo>
                  <a:pt x="9528" y="2193"/>
                </a:lnTo>
                <a:cubicBezTo>
                  <a:pt x="9981" y="2193"/>
                  <a:pt x="10322" y="1626"/>
                  <a:pt x="10322" y="945"/>
                </a:cubicBezTo>
                <a:lnTo>
                  <a:pt x="10322" y="907"/>
                </a:lnTo>
                <a:cubicBezTo>
                  <a:pt x="10322" y="567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Google Shape;207;p3"/>
          <p:cNvSpPr/>
          <p:nvPr/>
        </p:nvSpPr>
        <p:spPr>
          <a:xfrm>
            <a:off x="282600" y="1303200"/>
            <a:ext cx="322200" cy="95400"/>
          </a:xfrm>
          <a:custGeom>
            <a:avLst/>
            <a:gdLst/>
            <a:ahLst/>
            <a:rect l="l" t="t" r="r" b="b"/>
            <a:pathLst>
              <a:path w="10322" h="2194">
                <a:moveTo>
                  <a:pt x="10057" y="0"/>
                </a:moveTo>
                <a:cubicBezTo>
                  <a:pt x="10095" y="114"/>
                  <a:pt x="10095" y="227"/>
                  <a:pt x="10095" y="341"/>
                </a:cubicBezTo>
                <a:cubicBezTo>
                  <a:pt x="10095" y="1021"/>
                  <a:pt x="9755" y="1588"/>
                  <a:pt x="9301" y="1588"/>
                </a:cubicBezTo>
                <a:lnTo>
                  <a:pt x="530" y="1588"/>
                </a:lnTo>
                <a:cubicBezTo>
                  <a:pt x="303" y="1588"/>
                  <a:pt x="114" y="1437"/>
                  <a:pt x="0" y="1248"/>
                </a:cubicBezTo>
                <a:cubicBezTo>
                  <a:pt x="76" y="1777"/>
                  <a:pt x="340" y="2155"/>
                  <a:pt x="719" y="2193"/>
                </a:cubicBezTo>
                <a:lnTo>
                  <a:pt x="9528" y="2193"/>
                </a:lnTo>
                <a:cubicBezTo>
                  <a:pt x="9981" y="2193"/>
                  <a:pt x="10322" y="1626"/>
                  <a:pt x="10322" y="945"/>
                </a:cubicBezTo>
                <a:lnTo>
                  <a:pt x="10322" y="908"/>
                </a:lnTo>
                <a:cubicBezTo>
                  <a:pt x="10322" y="567"/>
                  <a:pt x="10208" y="227"/>
                  <a:pt x="10057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3" name="Google Shape;211;p3"/>
          <p:cNvGrpSpPr/>
          <p:nvPr/>
        </p:nvGrpSpPr>
        <p:grpSpPr>
          <a:xfrm>
            <a:off x="1030320" y="2108160"/>
            <a:ext cx="444600" cy="531720"/>
            <a:chOff x="1030320" y="2108160"/>
            <a:chExt cx="444600" cy="531720"/>
          </a:xfrm>
        </p:grpSpPr>
        <p:sp>
          <p:nvSpPr>
            <p:cNvPr id="354" name="Google Shape;212;p3"/>
            <p:cNvSpPr/>
            <p:nvPr/>
          </p:nvSpPr>
          <p:spPr>
            <a:xfrm>
              <a:off x="1030320" y="2108160"/>
              <a:ext cx="444600" cy="531720"/>
            </a:xfrm>
            <a:custGeom>
              <a:avLst/>
              <a:gdLst/>
              <a:ahLst/>
              <a:rect l="l" t="t" r="r" b="b"/>
              <a:pathLst>
                <a:path w="17771" h="15941">
                  <a:moveTo>
                    <a:pt x="6542" y="6116"/>
                  </a:moveTo>
                  <a:cubicBezTo>
                    <a:pt x="4437" y="1154"/>
                    <a:pt x="10201" y="1"/>
                    <a:pt x="9224" y="5866"/>
                  </a:cubicBezTo>
                  <a:cubicBezTo>
                    <a:pt x="11780" y="1003"/>
                    <a:pt x="16367" y="6718"/>
                    <a:pt x="10452" y="8021"/>
                  </a:cubicBezTo>
                  <a:cubicBezTo>
                    <a:pt x="17770" y="9525"/>
                    <a:pt x="12382" y="15139"/>
                    <a:pt x="9600" y="9976"/>
                  </a:cubicBezTo>
                  <a:cubicBezTo>
                    <a:pt x="11204" y="15891"/>
                    <a:pt x="5941" y="15941"/>
                    <a:pt x="7068" y="10252"/>
                  </a:cubicBezTo>
                  <a:cubicBezTo>
                    <a:pt x="4662" y="15565"/>
                    <a:pt x="1" y="11555"/>
                    <a:pt x="5414" y="8597"/>
                  </a:cubicBezTo>
                  <a:cubicBezTo>
                    <a:pt x="276" y="8597"/>
                    <a:pt x="1830" y="2031"/>
                    <a:pt x="6542" y="61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Google Shape;213;p3"/>
            <p:cNvSpPr/>
            <p:nvPr/>
          </p:nvSpPr>
          <p:spPr>
            <a:xfrm>
              <a:off x="1190520" y="2328840"/>
              <a:ext cx="95040" cy="96840"/>
            </a:xfrm>
            <a:custGeom>
              <a:avLst/>
              <a:gdLst/>
              <a:ahLst/>
              <a:rect l="l" t="t" r="r" b="b"/>
              <a:pathLst>
                <a:path w="3786" h="2933">
                  <a:moveTo>
                    <a:pt x="1906" y="0"/>
                  </a:moveTo>
                  <a:cubicBezTo>
                    <a:pt x="1" y="0"/>
                    <a:pt x="1" y="2933"/>
                    <a:pt x="1906" y="2933"/>
                  </a:cubicBezTo>
                  <a:cubicBezTo>
                    <a:pt x="3785" y="2933"/>
                    <a:pt x="3785" y="0"/>
                    <a:pt x="190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6" name="Google Shape;214;p3"/>
          <p:cNvGrpSpPr/>
          <p:nvPr/>
        </p:nvGrpSpPr>
        <p:grpSpPr>
          <a:xfrm>
            <a:off x="7353360" y="5273640"/>
            <a:ext cx="291960" cy="374760"/>
            <a:chOff x="7353360" y="5273640"/>
            <a:chExt cx="291960" cy="374760"/>
          </a:xfrm>
        </p:grpSpPr>
        <p:sp>
          <p:nvSpPr>
            <p:cNvPr id="357" name="Google Shape;215;p3"/>
            <p:cNvSpPr/>
            <p:nvPr/>
          </p:nvSpPr>
          <p:spPr>
            <a:xfrm>
              <a:off x="7396200" y="5314680"/>
              <a:ext cx="206280" cy="266760"/>
            </a:xfrm>
            <a:custGeom>
              <a:avLst/>
              <a:gdLst/>
              <a:ahLst/>
              <a:rect l="l" t="t" r="r" b="b"/>
              <a:pathLst>
                <a:path fill="none" w="8221" h="8021">
                  <a:moveTo>
                    <a:pt x="8221" y="0"/>
                  </a:moveTo>
                  <a:cubicBezTo>
                    <a:pt x="5765" y="2982"/>
                    <a:pt x="2807" y="5338"/>
                    <a:pt x="0" y="8020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Google Shape;216;p3"/>
            <p:cNvSpPr/>
            <p:nvPr/>
          </p:nvSpPr>
          <p:spPr>
            <a:xfrm>
              <a:off x="7413480" y="5314680"/>
              <a:ext cx="191880" cy="279720"/>
            </a:xfrm>
            <a:custGeom>
              <a:avLst/>
              <a:gdLst/>
              <a:ahLst/>
              <a:rect l="l" t="t" r="r" b="b"/>
              <a:pathLst>
                <a:path fill="none" w="7645" h="8422">
                  <a:moveTo>
                    <a:pt x="1" y="0"/>
                  </a:moveTo>
                  <a:cubicBezTo>
                    <a:pt x="1404" y="1830"/>
                    <a:pt x="3159" y="3409"/>
                    <a:pt x="4738" y="5088"/>
                  </a:cubicBezTo>
                  <a:cubicBezTo>
                    <a:pt x="6066" y="6491"/>
                    <a:pt x="6292" y="6993"/>
                    <a:pt x="7645" y="8421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Google Shape;217;p3"/>
            <p:cNvSpPr/>
            <p:nvPr/>
          </p:nvSpPr>
          <p:spPr>
            <a:xfrm>
              <a:off x="7507440" y="5273640"/>
              <a:ext cx="9360" cy="374760"/>
            </a:xfrm>
            <a:custGeom>
              <a:avLst/>
              <a:gdLst/>
              <a:ahLst/>
              <a:rect l="l" t="t" r="r" b="b"/>
              <a:pathLst>
                <a:path fill="none" w="427" h="11255">
                  <a:moveTo>
                    <a:pt x="150" y="1"/>
                  </a:moveTo>
                  <a:cubicBezTo>
                    <a:pt x="75" y="2507"/>
                    <a:pt x="426" y="5013"/>
                    <a:pt x="150" y="7470"/>
                  </a:cubicBezTo>
                  <a:cubicBezTo>
                    <a:pt x="25" y="8798"/>
                    <a:pt x="0" y="9951"/>
                    <a:pt x="0" y="11254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Google Shape;218;p3"/>
            <p:cNvSpPr/>
            <p:nvPr/>
          </p:nvSpPr>
          <p:spPr>
            <a:xfrm>
              <a:off x="7353360" y="5437080"/>
              <a:ext cx="285840" cy="14040"/>
            </a:xfrm>
            <a:custGeom>
              <a:avLst/>
              <a:gdLst/>
              <a:ahLst/>
              <a:rect l="l" t="t" r="r" b="b"/>
              <a:pathLst>
                <a:path fill="none" w="11405" h="427">
                  <a:moveTo>
                    <a:pt x="11404" y="426"/>
                  </a:moveTo>
                  <a:cubicBezTo>
                    <a:pt x="7495" y="0"/>
                    <a:pt x="3886" y="201"/>
                    <a:pt x="1" y="50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7040" bIns="-77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Google Shape;219;p3"/>
            <p:cNvSpPr/>
            <p:nvPr/>
          </p:nvSpPr>
          <p:spPr>
            <a:xfrm>
              <a:off x="7450200" y="5281560"/>
              <a:ext cx="104760" cy="357480"/>
            </a:xfrm>
            <a:custGeom>
              <a:avLst/>
              <a:gdLst/>
              <a:ahLst/>
              <a:rect l="l" t="t" r="r" b="b"/>
              <a:pathLst>
                <a:path fill="none" w="4186" h="10703">
                  <a:moveTo>
                    <a:pt x="0" y="1"/>
                  </a:moveTo>
                  <a:cubicBezTo>
                    <a:pt x="1780" y="3409"/>
                    <a:pt x="2833" y="7043"/>
                    <a:pt x="4186" y="10702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Google Shape;220;p3"/>
            <p:cNvSpPr/>
            <p:nvPr/>
          </p:nvSpPr>
          <p:spPr>
            <a:xfrm>
              <a:off x="7377120" y="5387760"/>
              <a:ext cx="268200" cy="125280"/>
            </a:xfrm>
            <a:custGeom>
              <a:avLst/>
              <a:gdLst/>
              <a:ahLst/>
              <a:rect l="l" t="t" r="r" b="b"/>
              <a:pathLst>
                <a:path fill="none" w="10727" h="3760">
                  <a:moveTo>
                    <a:pt x="0" y="3760"/>
                  </a:moveTo>
                  <a:cubicBezTo>
                    <a:pt x="2231" y="3184"/>
                    <a:pt x="4361" y="2181"/>
                    <a:pt x="6516" y="1379"/>
                  </a:cubicBezTo>
                  <a:cubicBezTo>
                    <a:pt x="8346" y="702"/>
                    <a:pt x="8897" y="677"/>
                    <a:pt x="10727" y="1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Google Shape;221;p3"/>
            <p:cNvSpPr/>
            <p:nvPr/>
          </p:nvSpPr>
          <p:spPr>
            <a:xfrm>
              <a:off x="7386480" y="5378400"/>
              <a:ext cx="257040" cy="150840"/>
            </a:xfrm>
            <a:custGeom>
              <a:avLst/>
              <a:gdLst/>
              <a:ahLst/>
              <a:rect l="l" t="t" r="r" b="b"/>
              <a:pathLst>
                <a:path fill="none" w="10301" h="4513">
                  <a:moveTo>
                    <a:pt x="0" y="1"/>
                  </a:moveTo>
                  <a:cubicBezTo>
                    <a:pt x="2281" y="1028"/>
                    <a:pt x="4712" y="1680"/>
                    <a:pt x="6867" y="2908"/>
                  </a:cubicBezTo>
                  <a:cubicBezTo>
                    <a:pt x="8045" y="3535"/>
                    <a:pt x="9098" y="4011"/>
                    <a:pt x="10301" y="4512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760" bIns="59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Google Shape;222;p3"/>
            <p:cNvSpPr/>
            <p:nvPr/>
          </p:nvSpPr>
          <p:spPr>
            <a:xfrm>
              <a:off x="7439040" y="5290920"/>
              <a:ext cx="120600" cy="344880"/>
            </a:xfrm>
            <a:custGeom>
              <a:avLst/>
              <a:gdLst/>
              <a:ahLst/>
              <a:rect l="l" t="t" r="r" b="b"/>
              <a:pathLst>
                <a:path fill="none" w="4813" h="10352">
                  <a:moveTo>
                    <a:pt x="4812" y="0"/>
                  </a:moveTo>
                  <a:cubicBezTo>
                    <a:pt x="2883" y="3434"/>
                    <a:pt x="1654" y="6842"/>
                    <a:pt x="0" y="10351"/>
                  </a:cubicBezTo>
                </a:path>
              </a:pathLst>
            </a:custGeom>
            <a:noFill/>
            <a:ln cap="rnd" w="29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Google Shape;223;p3"/>
            <p:cNvSpPr/>
            <p:nvPr/>
          </p:nvSpPr>
          <p:spPr>
            <a:xfrm>
              <a:off x="7437240" y="5360760"/>
              <a:ext cx="133200" cy="177840"/>
            </a:xfrm>
            <a:custGeom>
              <a:avLst/>
              <a:gdLst/>
              <a:ahLst/>
              <a:rect l="l" t="t" r="r" b="b"/>
              <a:pathLst>
                <a:path w="5339" h="5314">
                  <a:moveTo>
                    <a:pt x="4887" y="1830"/>
                  </a:moveTo>
                  <a:cubicBezTo>
                    <a:pt x="5339" y="3058"/>
                    <a:pt x="4712" y="4412"/>
                    <a:pt x="3484" y="4863"/>
                  </a:cubicBezTo>
                  <a:cubicBezTo>
                    <a:pt x="2281" y="5314"/>
                    <a:pt x="928" y="4687"/>
                    <a:pt x="451" y="3484"/>
                  </a:cubicBezTo>
                  <a:cubicBezTo>
                    <a:pt x="0" y="2256"/>
                    <a:pt x="627" y="903"/>
                    <a:pt x="1855" y="452"/>
                  </a:cubicBezTo>
                  <a:cubicBezTo>
                    <a:pt x="3058" y="1"/>
                    <a:pt x="4411" y="602"/>
                    <a:pt x="4887" y="1830"/>
                  </a:cubicBezTo>
                  <a:close/>
                </a:path>
              </a:pathLst>
            </a:custGeom>
            <a:solidFill>
              <a:srgbClr val="fff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86760" bIns="86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Google Shape;224;p3"/>
            <p:cNvSpPr/>
            <p:nvPr/>
          </p:nvSpPr>
          <p:spPr>
            <a:xfrm>
              <a:off x="7468200" y="5402160"/>
              <a:ext cx="72000" cy="95040"/>
            </a:xfrm>
            <a:custGeom>
              <a:avLst/>
              <a:gdLst/>
              <a:ahLst/>
              <a:rect l="l" t="t" r="r" b="b"/>
              <a:pathLst>
                <a:path w="2883" h="2858">
                  <a:moveTo>
                    <a:pt x="2632" y="978"/>
                  </a:moveTo>
                  <a:cubicBezTo>
                    <a:pt x="2882" y="1630"/>
                    <a:pt x="2532" y="2382"/>
                    <a:pt x="1880" y="2607"/>
                  </a:cubicBezTo>
                  <a:cubicBezTo>
                    <a:pt x="1228" y="2858"/>
                    <a:pt x="502" y="2532"/>
                    <a:pt x="251" y="1880"/>
                  </a:cubicBezTo>
                  <a:cubicBezTo>
                    <a:pt x="0" y="1204"/>
                    <a:pt x="326" y="477"/>
                    <a:pt x="1003" y="226"/>
                  </a:cubicBezTo>
                  <a:cubicBezTo>
                    <a:pt x="1654" y="1"/>
                    <a:pt x="2381" y="326"/>
                    <a:pt x="2632" y="978"/>
                  </a:cubicBez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7" name="Google Shape;225;p3"/>
          <p:cNvGrpSpPr/>
          <p:nvPr/>
        </p:nvGrpSpPr>
        <p:grpSpPr>
          <a:xfrm>
            <a:off x="7510320" y="1673280"/>
            <a:ext cx="166680" cy="223920"/>
            <a:chOff x="7510320" y="1673280"/>
            <a:chExt cx="166680" cy="223920"/>
          </a:xfrm>
        </p:grpSpPr>
        <p:sp>
          <p:nvSpPr>
            <p:cNvPr id="368" name="Google Shape;226;p3"/>
            <p:cNvSpPr/>
            <p:nvPr/>
          </p:nvSpPr>
          <p:spPr>
            <a:xfrm>
              <a:off x="7510320" y="1673280"/>
              <a:ext cx="166680" cy="223920"/>
            </a:xfrm>
            <a:custGeom>
              <a:avLst/>
              <a:gdLst/>
              <a:ahLst/>
              <a:rect l="l" t="t" r="r" b="b"/>
              <a:pathLst>
                <a:path w="6667" h="6743">
                  <a:moveTo>
                    <a:pt x="1930" y="3584"/>
                  </a:moveTo>
                  <a:cubicBezTo>
                    <a:pt x="0" y="2882"/>
                    <a:pt x="1529" y="1178"/>
                    <a:pt x="2607" y="2306"/>
                  </a:cubicBezTo>
                  <a:cubicBezTo>
                    <a:pt x="2231" y="0"/>
                    <a:pt x="4712" y="802"/>
                    <a:pt x="3935" y="2406"/>
                  </a:cubicBezTo>
                  <a:cubicBezTo>
                    <a:pt x="5088" y="877"/>
                    <a:pt x="6667" y="2506"/>
                    <a:pt x="4812" y="3384"/>
                  </a:cubicBezTo>
                  <a:cubicBezTo>
                    <a:pt x="6617" y="3885"/>
                    <a:pt x="5940" y="5464"/>
                    <a:pt x="4386" y="4837"/>
                  </a:cubicBezTo>
                  <a:cubicBezTo>
                    <a:pt x="4386" y="6742"/>
                    <a:pt x="2431" y="6517"/>
                    <a:pt x="2757" y="4787"/>
                  </a:cubicBezTo>
                  <a:cubicBezTo>
                    <a:pt x="1203" y="6141"/>
                    <a:pt x="151" y="4311"/>
                    <a:pt x="1930" y="3584"/>
                  </a:cubicBezTo>
                  <a:cubicBezTo>
                    <a:pt x="1755" y="3509"/>
                    <a:pt x="1830" y="3634"/>
                    <a:pt x="1930" y="35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Google Shape;227;p3"/>
            <p:cNvSpPr/>
            <p:nvPr/>
          </p:nvSpPr>
          <p:spPr>
            <a:xfrm>
              <a:off x="7564320" y="1763640"/>
              <a:ext cx="54000" cy="54000"/>
            </a:xfrm>
            <a:custGeom>
              <a:avLst/>
              <a:gdLst/>
              <a:ahLst/>
              <a:rect l="l" t="t" r="r" b="b"/>
              <a:pathLst>
                <a:path w="2106" h="1630">
                  <a:moveTo>
                    <a:pt x="1053" y="0"/>
                  </a:moveTo>
                  <a:cubicBezTo>
                    <a:pt x="1" y="0"/>
                    <a:pt x="1" y="1629"/>
                    <a:pt x="1053" y="1629"/>
                  </a:cubicBezTo>
                  <a:cubicBezTo>
                    <a:pt x="2106" y="1629"/>
                    <a:pt x="2106" y="0"/>
                    <a:pt x="105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Google Shape;228;p3"/>
          <p:cNvSpPr/>
          <p:nvPr/>
        </p:nvSpPr>
        <p:spPr>
          <a:xfrm>
            <a:off x="1531800" y="4022640"/>
            <a:ext cx="119160" cy="108000"/>
          </a:xfrm>
          <a:custGeom>
            <a:avLst/>
            <a:gdLst/>
            <a:ahLst/>
            <a:rect l="l" t="t" r="r" b="b"/>
            <a:pathLst>
              <a:path w="4765" h="3248">
                <a:moveTo>
                  <a:pt x="2253" y="1"/>
                </a:moveTo>
                <a:cubicBezTo>
                  <a:pt x="255" y="1"/>
                  <a:pt x="1" y="2834"/>
                  <a:pt x="2007" y="3221"/>
                </a:cubicBezTo>
                <a:cubicBezTo>
                  <a:pt x="2122" y="3239"/>
                  <a:pt x="2233" y="3248"/>
                  <a:pt x="2340" y="3248"/>
                </a:cubicBezTo>
                <a:cubicBezTo>
                  <a:pt x="4296" y="3248"/>
                  <a:pt x="4764" y="346"/>
                  <a:pt x="2483" y="13"/>
                </a:cubicBezTo>
                <a:cubicBezTo>
                  <a:pt x="2404" y="5"/>
                  <a:pt x="2327" y="1"/>
                  <a:pt x="2253" y="1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Google Shape;229;p3"/>
          <p:cNvSpPr/>
          <p:nvPr/>
        </p:nvSpPr>
        <p:spPr>
          <a:xfrm>
            <a:off x="8069400" y="3611520"/>
            <a:ext cx="87120" cy="82440"/>
          </a:xfrm>
          <a:custGeom>
            <a:avLst/>
            <a:gdLst/>
            <a:ahLst/>
            <a:rect l="l" t="t" r="r" b="b"/>
            <a:pathLst>
              <a:path w="3480" h="2477">
                <a:moveTo>
                  <a:pt x="2112" y="1"/>
                </a:moveTo>
                <a:cubicBezTo>
                  <a:pt x="1992" y="1"/>
                  <a:pt x="1862" y="18"/>
                  <a:pt x="1722" y="57"/>
                </a:cubicBezTo>
                <a:cubicBezTo>
                  <a:pt x="1690" y="55"/>
                  <a:pt x="1659" y="54"/>
                  <a:pt x="1628" y="54"/>
                </a:cubicBezTo>
                <a:cubicBezTo>
                  <a:pt x="35" y="54"/>
                  <a:pt x="1" y="2476"/>
                  <a:pt x="1610" y="2476"/>
                </a:cubicBezTo>
                <a:cubicBezTo>
                  <a:pt x="1678" y="2476"/>
                  <a:pt x="1748" y="2472"/>
                  <a:pt x="1822" y="2463"/>
                </a:cubicBezTo>
                <a:cubicBezTo>
                  <a:pt x="3480" y="2279"/>
                  <a:pt x="3466" y="1"/>
                  <a:pt x="2112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2" name="Google Shape;230;p3"/>
          <p:cNvGrpSpPr/>
          <p:nvPr/>
        </p:nvGrpSpPr>
        <p:grpSpPr>
          <a:xfrm>
            <a:off x="1168560" y="5419800"/>
            <a:ext cx="166680" cy="225360"/>
            <a:chOff x="1168560" y="5419800"/>
            <a:chExt cx="166680" cy="225360"/>
          </a:xfrm>
        </p:grpSpPr>
        <p:sp>
          <p:nvSpPr>
            <p:cNvPr id="373" name="Google Shape;231;p3"/>
            <p:cNvSpPr/>
            <p:nvPr/>
          </p:nvSpPr>
          <p:spPr>
            <a:xfrm>
              <a:off x="1168560" y="5419800"/>
              <a:ext cx="166680" cy="225360"/>
            </a:xfrm>
            <a:custGeom>
              <a:avLst/>
              <a:gdLst/>
              <a:ahLst/>
              <a:rect l="l" t="t" r="r" b="b"/>
              <a:pathLst>
                <a:path w="6667" h="6743">
                  <a:moveTo>
                    <a:pt x="1930" y="3584"/>
                  </a:moveTo>
                  <a:cubicBezTo>
                    <a:pt x="0" y="2882"/>
                    <a:pt x="1529" y="1178"/>
                    <a:pt x="2607" y="2306"/>
                  </a:cubicBezTo>
                  <a:cubicBezTo>
                    <a:pt x="2231" y="0"/>
                    <a:pt x="4712" y="802"/>
                    <a:pt x="3935" y="2406"/>
                  </a:cubicBezTo>
                  <a:cubicBezTo>
                    <a:pt x="5088" y="877"/>
                    <a:pt x="6667" y="2506"/>
                    <a:pt x="4812" y="3384"/>
                  </a:cubicBezTo>
                  <a:cubicBezTo>
                    <a:pt x="6617" y="3885"/>
                    <a:pt x="5940" y="5464"/>
                    <a:pt x="4386" y="4837"/>
                  </a:cubicBezTo>
                  <a:cubicBezTo>
                    <a:pt x="4386" y="6742"/>
                    <a:pt x="2431" y="6517"/>
                    <a:pt x="2757" y="4787"/>
                  </a:cubicBezTo>
                  <a:cubicBezTo>
                    <a:pt x="1203" y="6141"/>
                    <a:pt x="151" y="4311"/>
                    <a:pt x="1930" y="3584"/>
                  </a:cubicBezTo>
                  <a:cubicBezTo>
                    <a:pt x="1755" y="3509"/>
                    <a:pt x="1830" y="3634"/>
                    <a:pt x="1930" y="35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Google Shape;232;p3"/>
            <p:cNvSpPr/>
            <p:nvPr/>
          </p:nvSpPr>
          <p:spPr>
            <a:xfrm>
              <a:off x="1222560" y="5511960"/>
              <a:ext cx="54000" cy="54000"/>
            </a:xfrm>
            <a:custGeom>
              <a:avLst/>
              <a:gdLst/>
              <a:ahLst/>
              <a:rect l="l" t="t" r="r" b="b"/>
              <a:pathLst>
                <a:path w="2106" h="1630">
                  <a:moveTo>
                    <a:pt x="1053" y="0"/>
                  </a:moveTo>
                  <a:cubicBezTo>
                    <a:pt x="1" y="0"/>
                    <a:pt x="1" y="1629"/>
                    <a:pt x="1053" y="1629"/>
                  </a:cubicBezTo>
                  <a:cubicBezTo>
                    <a:pt x="2106" y="1629"/>
                    <a:pt x="2106" y="0"/>
                    <a:pt x="105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9D5-3D08-4CF3-9276-32D9F8430A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9E8E-D30B-4902-93FB-2A107C7BC6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1F1-18FE-4C57-979C-665ACD9F53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B16-0BCC-4052-8CC6-478F707D060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6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4" name="Imagen 4" descr="Una sala de estar&#10;&#10;Descripción generada automáticamente con confianza media"/>
          <p:cNvPicPr/>
          <p:nvPr/>
        </p:nvPicPr>
        <p:blipFill>
          <a:blip r:embed="rId1"/>
          <a:srcRect l="0" t="0" r="0" b="6303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325" name="CuadroTexto 5"/>
          <p:cNvSpPr/>
          <p:nvPr/>
        </p:nvSpPr>
        <p:spPr>
          <a:xfrm>
            <a:off x="3156120" y="1057320"/>
            <a:ext cx="48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000"/>
                </a:solidFill>
                <a:latin typeface="Comic Sans MS"/>
              </a:rPr>
              <a:t>El sistema circulato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CuadroTexto 6"/>
          <p:cNvSpPr/>
          <p:nvPr/>
        </p:nvSpPr>
        <p:spPr>
          <a:xfrm>
            <a:off x="3333600" y="1636560"/>
            <a:ext cx="445932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omic Sans MS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omic Sans MS"/>
              </a:rPr>
              <a:t>1-. Identificar las principales estructuras del sistema circulatori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omic Sans MS"/>
              </a:rPr>
              <a:t>2-. Conocer las partes del corazón y como funcion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omic Sans MS"/>
              </a:rPr>
              <a:t>3-. Diferenciar las arterias, de las venas y de los capila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omic Sans MS"/>
              </a:rPr>
              <a:t>4-. Describir la función del sistema circulatori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omic Sans MS"/>
              </a:rPr>
              <a:t>5-. Entender el recorrido de la sangre y su fun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CuadroTexto 7"/>
          <p:cNvSpPr/>
          <p:nvPr/>
        </p:nvSpPr>
        <p:spPr>
          <a:xfrm>
            <a:off x="1044720" y="467676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Profesor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Ivonne Pal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272360" cy="657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ntonces. ¿Por donde pasa la sangre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Picture 2" descr="circulacion pulmonar y general para niños de primaria - Buscar con Google |  Circulacion mayor, Circulación sistémica, Circulacion"/>
          <p:cNvPicPr/>
          <p:nvPr/>
        </p:nvPicPr>
        <p:blipFill>
          <a:blip r:embed="rId1"/>
          <a:srcRect l="4030" t="12917" r="2511" b="0"/>
          <a:stretch/>
        </p:blipFill>
        <p:spPr>
          <a:xfrm>
            <a:off x="0" y="773280"/>
            <a:ext cx="9036000" cy="596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24000" y="82440"/>
            <a:ext cx="8688240" cy="65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omic Sans MS"/>
              </a:rPr>
              <a:t>Ahora nos toca aprender de los vasos sanguíneos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title"/>
          </p:nvPr>
        </p:nvSpPr>
        <p:spPr>
          <a:xfrm>
            <a:off x="1221840" y="806400"/>
            <a:ext cx="7371000" cy="657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Comic Sans MS"/>
              </a:rPr>
              <a:t>Y, ¿Qué son los vasos sanguíne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subTitle"/>
          </p:nvPr>
        </p:nvSpPr>
        <p:spPr>
          <a:xfrm>
            <a:off x="1832040" y="1468440"/>
            <a:ext cx="6478560" cy="395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Son los conductos por donde pasa la sangre, </a:t>
            </a:r>
            <a:r>
              <a:rPr b="1" lang="es-CL" sz="2400" spc="-1" strike="noStrike">
                <a:solidFill>
                  <a:srgbClr val="0000ff"/>
                </a:solidFill>
                <a:latin typeface="Comic Sans MS"/>
              </a:rPr>
              <a:t>EXISTEN 3 TIP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7" name="Google Shape;2339;p29"/>
          <p:cNvGrpSpPr/>
          <p:nvPr/>
        </p:nvGrpSpPr>
        <p:grpSpPr>
          <a:xfrm>
            <a:off x="8569440" y="5281560"/>
            <a:ext cx="193680" cy="190440"/>
            <a:chOff x="8569440" y="5281560"/>
            <a:chExt cx="193680" cy="190440"/>
          </a:xfrm>
        </p:grpSpPr>
        <p:sp>
          <p:nvSpPr>
            <p:cNvPr id="1378" name="Google Shape;2340;p29"/>
            <p:cNvSpPr/>
            <p:nvPr/>
          </p:nvSpPr>
          <p:spPr>
            <a:xfrm>
              <a:off x="8706600" y="5292720"/>
              <a:ext cx="32760" cy="30960"/>
            </a:xfrm>
            <a:custGeom>
              <a:avLst/>
              <a:gdLst/>
              <a:ahLst/>
              <a:rect l="l" t="t" r="r" b="b"/>
              <a:pathLst>
                <a:path w="3326" h="3130">
                  <a:moveTo>
                    <a:pt x="482" y="1"/>
                  </a:moveTo>
                  <a:cubicBezTo>
                    <a:pt x="280" y="1"/>
                    <a:pt x="95" y="114"/>
                    <a:pt x="1" y="293"/>
                  </a:cubicBezTo>
                  <a:lnTo>
                    <a:pt x="3322" y="3130"/>
                  </a:lnTo>
                  <a:lnTo>
                    <a:pt x="3322" y="564"/>
                  </a:lnTo>
                  <a:cubicBezTo>
                    <a:pt x="3325" y="253"/>
                    <a:pt x="3072" y="1"/>
                    <a:pt x="2761" y="1"/>
                  </a:cubicBezTo>
                  <a:cubicBezTo>
                    <a:pt x="2760" y="1"/>
                    <a:pt x="2758" y="1"/>
                    <a:pt x="2756" y="1"/>
                  </a:cubicBezTo>
                  <a:lnTo>
                    <a:pt x="497" y="1"/>
                  </a:lnTo>
                  <a:cubicBezTo>
                    <a:pt x="492" y="1"/>
                    <a:pt x="487" y="1"/>
                    <a:pt x="482" y="1"/>
                  </a:cubicBez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0120" bIns="-60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Google Shape;2341;p29"/>
            <p:cNvSpPr/>
            <p:nvPr/>
          </p:nvSpPr>
          <p:spPr>
            <a:xfrm>
              <a:off x="8644680" y="5415480"/>
              <a:ext cx="44640" cy="56520"/>
            </a:xfrm>
            <a:custGeom>
              <a:avLst/>
              <a:gdLst/>
              <a:ahLst/>
              <a:rect l="l" t="t" r="r" b="b"/>
              <a:pathLst>
                <a:path w="4518" h="5722">
                  <a:moveTo>
                    <a:pt x="2822" y="1130"/>
                  </a:moveTo>
                  <a:cubicBezTo>
                    <a:pt x="3325" y="1130"/>
                    <a:pt x="3578" y="1738"/>
                    <a:pt x="3222" y="2093"/>
                  </a:cubicBezTo>
                  <a:cubicBezTo>
                    <a:pt x="3106" y="2209"/>
                    <a:pt x="2964" y="2260"/>
                    <a:pt x="2825" y="2260"/>
                  </a:cubicBezTo>
                  <a:cubicBezTo>
                    <a:pt x="2535" y="2260"/>
                    <a:pt x="2259" y="2036"/>
                    <a:pt x="2259" y="1696"/>
                  </a:cubicBezTo>
                  <a:cubicBezTo>
                    <a:pt x="2259" y="1383"/>
                    <a:pt x="2509" y="1130"/>
                    <a:pt x="2822" y="1130"/>
                  </a:cubicBezTo>
                  <a:close/>
                  <a:moveTo>
                    <a:pt x="0" y="1"/>
                  </a:moveTo>
                  <a:lnTo>
                    <a:pt x="0" y="5722"/>
                  </a:lnTo>
                  <a:lnTo>
                    <a:pt x="4517" y="5722"/>
                  </a:lnTo>
                  <a:lnTo>
                    <a:pt x="4517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Google Shape;2342;p29"/>
            <p:cNvSpPr/>
            <p:nvPr/>
          </p:nvSpPr>
          <p:spPr>
            <a:xfrm>
              <a:off x="8655480" y="5359680"/>
              <a:ext cx="22320" cy="22320"/>
            </a:xfrm>
            <a:custGeom>
              <a:avLst/>
              <a:gdLst/>
              <a:ahLst/>
              <a:rect l="l" t="t" r="r" b="b"/>
              <a:pathLst>
                <a:path w="2259" h="2259">
                  <a:moveTo>
                    <a:pt x="0" y="0"/>
                  </a:moveTo>
                  <a:lnTo>
                    <a:pt x="0" y="2259"/>
                  </a:lnTo>
                  <a:lnTo>
                    <a:pt x="2259" y="2259"/>
                  </a:lnTo>
                  <a:lnTo>
                    <a:pt x="22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8760" bIns="-68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Google Shape;2343;p29"/>
            <p:cNvSpPr/>
            <p:nvPr/>
          </p:nvSpPr>
          <p:spPr>
            <a:xfrm>
              <a:off x="8569440" y="5281560"/>
              <a:ext cx="193680" cy="93960"/>
            </a:xfrm>
            <a:custGeom>
              <a:avLst/>
              <a:gdLst/>
              <a:ahLst/>
              <a:rect l="l" t="t" r="r" b="b"/>
              <a:pathLst>
                <a:path w="19529" h="9513">
                  <a:moveTo>
                    <a:pt x="9821" y="0"/>
                  </a:moveTo>
                  <a:cubicBezTo>
                    <a:pt x="9559" y="0"/>
                    <a:pt x="9297" y="92"/>
                    <a:pt x="9086" y="276"/>
                  </a:cubicBezTo>
                  <a:lnTo>
                    <a:pt x="531" y="7521"/>
                  </a:lnTo>
                  <a:cubicBezTo>
                    <a:pt x="61" y="7921"/>
                    <a:pt x="1" y="8626"/>
                    <a:pt x="395" y="9099"/>
                  </a:cubicBezTo>
                  <a:cubicBezTo>
                    <a:pt x="620" y="9369"/>
                    <a:pt x="942" y="9508"/>
                    <a:pt x="1266" y="9508"/>
                  </a:cubicBezTo>
                  <a:cubicBezTo>
                    <a:pt x="1525" y="9508"/>
                    <a:pt x="1785" y="9419"/>
                    <a:pt x="1997" y="9237"/>
                  </a:cubicBezTo>
                  <a:lnTo>
                    <a:pt x="9821" y="2622"/>
                  </a:lnTo>
                  <a:lnTo>
                    <a:pt x="17544" y="9240"/>
                  </a:lnTo>
                  <a:cubicBezTo>
                    <a:pt x="17759" y="9425"/>
                    <a:pt x="18019" y="9513"/>
                    <a:pt x="18278" y="9513"/>
                  </a:cubicBezTo>
                  <a:cubicBezTo>
                    <a:pt x="18661" y="9513"/>
                    <a:pt x="19039" y="9318"/>
                    <a:pt x="19252" y="8954"/>
                  </a:cubicBezTo>
                  <a:cubicBezTo>
                    <a:pt x="19529" y="8482"/>
                    <a:pt x="19430" y="7879"/>
                    <a:pt x="19014" y="7524"/>
                  </a:cubicBezTo>
                  <a:lnTo>
                    <a:pt x="10555" y="276"/>
                  </a:lnTo>
                  <a:cubicBezTo>
                    <a:pt x="10345" y="92"/>
                    <a:pt x="10083" y="0"/>
                    <a:pt x="9821" y="0"/>
                  </a:cubicBez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2" name="Google Shape;2344;p29"/>
            <p:cNvSpPr/>
            <p:nvPr/>
          </p:nvSpPr>
          <p:spPr>
            <a:xfrm>
              <a:off x="8592840" y="5321880"/>
              <a:ext cx="146880" cy="150120"/>
            </a:xfrm>
            <a:custGeom>
              <a:avLst/>
              <a:gdLst/>
              <a:ahLst/>
              <a:rect l="l" t="t" r="r" b="b"/>
              <a:pathLst>
                <a:path w="14792" h="15168">
                  <a:moveTo>
                    <a:pt x="9143" y="2671"/>
                  </a:moveTo>
                  <a:cubicBezTo>
                    <a:pt x="9453" y="2671"/>
                    <a:pt x="9706" y="2924"/>
                    <a:pt x="9706" y="3237"/>
                  </a:cubicBezTo>
                  <a:lnTo>
                    <a:pt x="9706" y="6625"/>
                  </a:lnTo>
                  <a:cubicBezTo>
                    <a:pt x="9706" y="6935"/>
                    <a:pt x="9453" y="7188"/>
                    <a:pt x="9143" y="7188"/>
                  </a:cubicBezTo>
                  <a:lnTo>
                    <a:pt x="5755" y="7188"/>
                  </a:lnTo>
                  <a:cubicBezTo>
                    <a:pt x="5442" y="7188"/>
                    <a:pt x="5189" y="6935"/>
                    <a:pt x="5189" y="6625"/>
                  </a:cubicBezTo>
                  <a:lnTo>
                    <a:pt x="5189" y="3237"/>
                  </a:lnTo>
                  <a:cubicBezTo>
                    <a:pt x="5189" y="2924"/>
                    <a:pt x="5442" y="2671"/>
                    <a:pt x="5755" y="2671"/>
                  </a:cubicBezTo>
                  <a:lnTo>
                    <a:pt x="9143" y="2671"/>
                  </a:lnTo>
                  <a:close/>
                  <a:moveTo>
                    <a:pt x="7448" y="0"/>
                  </a:moveTo>
                  <a:lnTo>
                    <a:pt x="4" y="6291"/>
                  </a:lnTo>
                  <a:lnTo>
                    <a:pt x="4" y="14605"/>
                  </a:lnTo>
                  <a:cubicBezTo>
                    <a:pt x="1" y="14913"/>
                    <a:pt x="254" y="15168"/>
                    <a:pt x="564" y="15168"/>
                  </a:cubicBezTo>
                  <a:cubicBezTo>
                    <a:pt x="566" y="15168"/>
                    <a:pt x="568" y="15168"/>
                    <a:pt x="570" y="15168"/>
                  </a:cubicBezTo>
                  <a:lnTo>
                    <a:pt x="4060" y="15168"/>
                  </a:lnTo>
                  <a:lnTo>
                    <a:pt x="4060" y="8883"/>
                  </a:lnTo>
                  <a:cubicBezTo>
                    <a:pt x="4060" y="8570"/>
                    <a:pt x="4313" y="8317"/>
                    <a:pt x="4626" y="8317"/>
                  </a:cubicBezTo>
                  <a:lnTo>
                    <a:pt x="10272" y="8317"/>
                  </a:lnTo>
                  <a:cubicBezTo>
                    <a:pt x="10582" y="8317"/>
                    <a:pt x="10835" y="8570"/>
                    <a:pt x="10835" y="8883"/>
                  </a:cubicBezTo>
                  <a:lnTo>
                    <a:pt x="10835" y="15168"/>
                  </a:lnTo>
                  <a:lnTo>
                    <a:pt x="14223" y="15168"/>
                  </a:lnTo>
                  <a:cubicBezTo>
                    <a:pt x="14225" y="15168"/>
                    <a:pt x="14227" y="15168"/>
                    <a:pt x="14228" y="15168"/>
                  </a:cubicBezTo>
                  <a:cubicBezTo>
                    <a:pt x="14539" y="15168"/>
                    <a:pt x="14792" y="14913"/>
                    <a:pt x="14789" y="14605"/>
                  </a:cubicBezTo>
                  <a:lnTo>
                    <a:pt x="14789" y="6291"/>
                  </a:lnTo>
                  <a:lnTo>
                    <a:pt x="7448" y="0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040" bIns="59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3" name="Google Shape;2346;p29">
            <a:hlinkClick r:id="rId1" action="ppaction://hlinksldjump"/>
          </p:cNvPr>
          <p:cNvSpPr/>
          <p:nvPr/>
        </p:nvSpPr>
        <p:spPr>
          <a:xfrm>
            <a:off x="8416800" y="202896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4" name="Picture 2" descr="Cartoon Waving Woman Fotos e Imágenes de stock - Página 5 - Alamy"/>
          <p:cNvPicPr/>
          <p:nvPr/>
        </p:nvPicPr>
        <p:blipFill>
          <a:blip r:embed="rId2"/>
          <a:srcRect l="0" t="0" r="0" b="7021"/>
          <a:stretch/>
        </p:blipFill>
        <p:spPr>
          <a:xfrm>
            <a:off x="7920" y="650880"/>
            <a:ext cx="1836720" cy="3801960"/>
          </a:xfrm>
          <a:prstGeom prst="rect">
            <a:avLst/>
          </a:prstGeom>
          <a:ln w="0">
            <a:noFill/>
          </a:ln>
        </p:spPr>
      </p:pic>
      <p:sp>
        <p:nvSpPr>
          <p:cNvPr id="1385" name="CuadroTexto 2"/>
          <p:cNvSpPr/>
          <p:nvPr/>
        </p:nvSpPr>
        <p:spPr>
          <a:xfrm>
            <a:off x="1222200" y="3141720"/>
            <a:ext cx="23450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omic Sans MS"/>
              </a:rPr>
              <a:t>Las arteria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Son vasos sanguíneos que salen del corazón llevando la sangre con grandes cantidades de oxigeno a todo el cuerp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Están formadas por 3 paredes gruesas de musculo, lo que le da resistencia y elasticidad para soportar la pres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CuadroTexto 26"/>
          <p:cNvSpPr/>
          <p:nvPr/>
        </p:nvSpPr>
        <p:spPr>
          <a:xfrm>
            <a:off x="3935520" y="3141720"/>
            <a:ext cx="2787480" cy="325764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omic Sans MS"/>
              </a:rPr>
              <a:t>Las ven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Son vasos sanguíneos que llegan al corazón llevando la sangre con grandes cantidades de dióxido de carbono de todo el cuerp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Están formadas por 3 paredes delgadas de musculo, teniendo menor elasticidad, poseen pequeñas válvulas lo que impide que la sangre se devuel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CuadroTexto 27"/>
          <p:cNvSpPr/>
          <p:nvPr/>
        </p:nvSpPr>
        <p:spPr>
          <a:xfrm>
            <a:off x="6818400" y="3289320"/>
            <a:ext cx="1969920" cy="25275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omic Sans MS"/>
              </a:rPr>
              <a:t>Los capila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Son vasos sanguíneos muy pequeños, con una sola pared, lo que les permite realizar el intercambio de gases, nutrientes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Venas y Arter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9" name="Picture 6" descr="capilar sanguineo"/>
          <p:cNvPicPr/>
          <p:nvPr/>
        </p:nvPicPr>
        <p:blipFill>
          <a:blip r:embed="rId1"/>
          <a:stretch/>
        </p:blipFill>
        <p:spPr>
          <a:xfrm>
            <a:off x="179280" y="1628640"/>
            <a:ext cx="3529080" cy="3745080"/>
          </a:xfrm>
          <a:prstGeom prst="rect">
            <a:avLst/>
          </a:prstGeom>
          <a:ln w="0">
            <a:noFill/>
          </a:ln>
        </p:spPr>
      </p:pic>
      <p:sp>
        <p:nvSpPr>
          <p:cNvPr id="1390" name="Rectangle 7"/>
          <p:cNvSpPr/>
          <p:nvPr/>
        </p:nvSpPr>
        <p:spPr>
          <a:xfrm>
            <a:off x="4140360" y="1989000"/>
            <a:ext cx="446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VASOS SANGUÍNEOS QUE LLEGAN Y SALEN DEL CORAZ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 vasos sanguíneos que entran con sangre en el corazón se llaman venas. L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ena cava superior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y l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ena cava inferior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llegan a la aurícula derecha; las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venas pulmon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a la aurícula izquier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 vasos sanguíneos que salen del corazón se llaman arterias. L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rteria pulmonar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ale del ventrículo derecho; la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rteria aorta,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el ventrículo izquier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Picture 4" descr="capilar"/>
          <p:cNvPicPr/>
          <p:nvPr/>
        </p:nvPicPr>
        <p:blipFill>
          <a:blip r:embed="rId2"/>
          <a:stretch/>
        </p:blipFill>
        <p:spPr>
          <a:xfrm>
            <a:off x="108000" y="203040"/>
            <a:ext cx="8928000" cy="6593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EC94-8FC5-4918-AADD-1670EE7A5A1B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3" name="Picture 5" descr="vasos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94" name="Text Box 6"/>
          <p:cNvSpPr/>
          <p:nvPr/>
        </p:nvSpPr>
        <p:spPr>
          <a:xfrm>
            <a:off x="8244000" y="638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apilares Sanguíne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6" name="Picture 3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272360" cy="302436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4" descr="arterias"/>
          <p:cNvPicPr/>
          <p:nvPr/>
        </p:nvPicPr>
        <p:blipFill>
          <a:blip r:embed="rId2"/>
          <a:stretch/>
        </p:blipFill>
        <p:spPr>
          <a:xfrm>
            <a:off x="2843280" y="4724280"/>
            <a:ext cx="3384360" cy="2008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285840" y="63360"/>
            <a:ext cx="7223040" cy="657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Aprendamos más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title"/>
          </p:nvPr>
        </p:nvSpPr>
        <p:spPr>
          <a:xfrm>
            <a:off x="877680" y="960120"/>
            <a:ext cx="5554440" cy="655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omic Sans MS"/>
              </a:rPr>
              <a:t>¿Sabes cuál es la arteria más </a:t>
            </a:r>
            <a:br>
              <a:rPr sz="2400"/>
            </a:br>
            <a:r>
              <a:rPr b="0" lang="es-CL" sz="2400" spc="-1" strike="noStrike">
                <a:solidFill>
                  <a:srgbClr val="ff0000"/>
                </a:solidFill>
                <a:latin typeface="Comic Sans MS"/>
              </a:rPr>
              <a:t>grande que tenem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subTitle"/>
          </p:nvPr>
        </p:nvSpPr>
        <p:spPr>
          <a:xfrm>
            <a:off x="590040" y="2452680"/>
            <a:ext cx="5526360" cy="88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66"/>
                </a:solidFill>
                <a:latin typeface="Comic Sans MS"/>
              </a:rPr>
              <a:t>¿Sabes cuál es la vena más grande que tenem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Google Shape;3170;p34">
            <a:hlinkClick r:id="rId1" action="ppaction://hlinksldjump"/>
          </p:cNvPr>
          <p:cNvSpPr/>
          <p:nvPr/>
        </p:nvSpPr>
        <p:spPr>
          <a:xfrm>
            <a:off x="384120" y="3657600"/>
            <a:ext cx="57326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Jua"/>
                <a:ea typeface="Jua"/>
              </a:rPr>
              <a:t>¿Que vena transporta sangre c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Jua"/>
                <a:ea typeface="Jua"/>
              </a:rPr>
              <a:t>mucho oxigen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2" name="Google Shape;3171;p34"/>
          <p:cNvGrpSpPr/>
          <p:nvPr/>
        </p:nvGrpSpPr>
        <p:grpSpPr>
          <a:xfrm>
            <a:off x="8569440" y="5281560"/>
            <a:ext cx="193680" cy="190440"/>
            <a:chOff x="8569440" y="5281560"/>
            <a:chExt cx="193680" cy="190440"/>
          </a:xfrm>
        </p:grpSpPr>
        <p:sp>
          <p:nvSpPr>
            <p:cNvPr id="1403" name="Google Shape;3172;p34"/>
            <p:cNvSpPr/>
            <p:nvPr/>
          </p:nvSpPr>
          <p:spPr>
            <a:xfrm>
              <a:off x="8706600" y="5292720"/>
              <a:ext cx="32760" cy="30960"/>
            </a:xfrm>
            <a:custGeom>
              <a:avLst/>
              <a:gdLst/>
              <a:ahLst/>
              <a:rect l="l" t="t" r="r" b="b"/>
              <a:pathLst>
                <a:path w="3326" h="3130">
                  <a:moveTo>
                    <a:pt x="482" y="1"/>
                  </a:moveTo>
                  <a:cubicBezTo>
                    <a:pt x="280" y="1"/>
                    <a:pt x="95" y="114"/>
                    <a:pt x="1" y="293"/>
                  </a:cubicBezTo>
                  <a:lnTo>
                    <a:pt x="3322" y="3130"/>
                  </a:lnTo>
                  <a:lnTo>
                    <a:pt x="3322" y="564"/>
                  </a:lnTo>
                  <a:cubicBezTo>
                    <a:pt x="3325" y="253"/>
                    <a:pt x="3072" y="1"/>
                    <a:pt x="2761" y="1"/>
                  </a:cubicBezTo>
                  <a:cubicBezTo>
                    <a:pt x="2760" y="1"/>
                    <a:pt x="2758" y="1"/>
                    <a:pt x="2756" y="1"/>
                  </a:cubicBezTo>
                  <a:lnTo>
                    <a:pt x="497" y="1"/>
                  </a:lnTo>
                  <a:cubicBezTo>
                    <a:pt x="492" y="1"/>
                    <a:pt x="487" y="1"/>
                    <a:pt x="482" y="1"/>
                  </a:cubicBez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0120" bIns="-60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Google Shape;3173;p34"/>
            <p:cNvSpPr/>
            <p:nvPr/>
          </p:nvSpPr>
          <p:spPr>
            <a:xfrm>
              <a:off x="8644680" y="5415480"/>
              <a:ext cx="44640" cy="56520"/>
            </a:xfrm>
            <a:custGeom>
              <a:avLst/>
              <a:gdLst/>
              <a:ahLst/>
              <a:rect l="l" t="t" r="r" b="b"/>
              <a:pathLst>
                <a:path w="4518" h="5722">
                  <a:moveTo>
                    <a:pt x="2822" y="1130"/>
                  </a:moveTo>
                  <a:cubicBezTo>
                    <a:pt x="3325" y="1130"/>
                    <a:pt x="3578" y="1738"/>
                    <a:pt x="3222" y="2093"/>
                  </a:cubicBezTo>
                  <a:cubicBezTo>
                    <a:pt x="3106" y="2209"/>
                    <a:pt x="2964" y="2260"/>
                    <a:pt x="2825" y="2260"/>
                  </a:cubicBezTo>
                  <a:cubicBezTo>
                    <a:pt x="2535" y="2260"/>
                    <a:pt x="2259" y="2036"/>
                    <a:pt x="2259" y="1696"/>
                  </a:cubicBezTo>
                  <a:cubicBezTo>
                    <a:pt x="2259" y="1383"/>
                    <a:pt x="2509" y="1130"/>
                    <a:pt x="2822" y="1130"/>
                  </a:cubicBezTo>
                  <a:close/>
                  <a:moveTo>
                    <a:pt x="0" y="1"/>
                  </a:moveTo>
                  <a:lnTo>
                    <a:pt x="0" y="5722"/>
                  </a:lnTo>
                  <a:lnTo>
                    <a:pt x="4517" y="5722"/>
                  </a:lnTo>
                  <a:lnTo>
                    <a:pt x="4517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5" name="Google Shape;3174;p34"/>
            <p:cNvSpPr/>
            <p:nvPr/>
          </p:nvSpPr>
          <p:spPr>
            <a:xfrm>
              <a:off x="8655480" y="5359680"/>
              <a:ext cx="22320" cy="22320"/>
            </a:xfrm>
            <a:custGeom>
              <a:avLst/>
              <a:gdLst/>
              <a:ahLst/>
              <a:rect l="l" t="t" r="r" b="b"/>
              <a:pathLst>
                <a:path w="2259" h="2259">
                  <a:moveTo>
                    <a:pt x="0" y="0"/>
                  </a:moveTo>
                  <a:lnTo>
                    <a:pt x="0" y="2259"/>
                  </a:lnTo>
                  <a:lnTo>
                    <a:pt x="2259" y="2259"/>
                  </a:lnTo>
                  <a:lnTo>
                    <a:pt x="22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8760" bIns="-68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6" name="Google Shape;3175;p34"/>
            <p:cNvSpPr/>
            <p:nvPr/>
          </p:nvSpPr>
          <p:spPr>
            <a:xfrm>
              <a:off x="8569440" y="5281560"/>
              <a:ext cx="193680" cy="93960"/>
            </a:xfrm>
            <a:custGeom>
              <a:avLst/>
              <a:gdLst/>
              <a:ahLst/>
              <a:rect l="l" t="t" r="r" b="b"/>
              <a:pathLst>
                <a:path w="19529" h="9513">
                  <a:moveTo>
                    <a:pt x="9821" y="0"/>
                  </a:moveTo>
                  <a:cubicBezTo>
                    <a:pt x="9559" y="0"/>
                    <a:pt x="9297" y="92"/>
                    <a:pt x="9086" y="276"/>
                  </a:cubicBezTo>
                  <a:lnTo>
                    <a:pt x="531" y="7521"/>
                  </a:lnTo>
                  <a:cubicBezTo>
                    <a:pt x="61" y="7921"/>
                    <a:pt x="1" y="8626"/>
                    <a:pt x="395" y="9099"/>
                  </a:cubicBezTo>
                  <a:cubicBezTo>
                    <a:pt x="620" y="9369"/>
                    <a:pt x="942" y="9508"/>
                    <a:pt x="1266" y="9508"/>
                  </a:cubicBezTo>
                  <a:cubicBezTo>
                    <a:pt x="1525" y="9508"/>
                    <a:pt x="1785" y="9419"/>
                    <a:pt x="1997" y="9237"/>
                  </a:cubicBezTo>
                  <a:lnTo>
                    <a:pt x="9821" y="2622"/>
                  </a:lnTo>
                  <a:lnTo>
                    <a:pt x="17544" y="9240"/>
                  </a:lnTo>
                  <a:cubicBezTo>
                    <a:pt x="17759" y="9425"/>
                    <a:pt x="18019" y="9513"/>
                    <a:pt x="18278" y="9513"/>
                  </a:cubicBezTo>
                  <a:cubicBezTo>
                    <a:pt x="18661" y="9513"/>
                    <a:pt x="19039" y="9318"/>
                    <a:pt x="19252" y="8954"/>
                  </a:cubicBezTo>
                  <a:cubicBezTo>
                    <a:pt x="19529" y="8482"/>
                    <a:pt x="19430" y="7879"/>
                    <a:pt x="19014" y="7524"/>
                  </a:cubicBezTo>
                  <a:lnTo>
                    <a:pt x="10555" y="276"/>
                  </a:lnTo>
                  <a:cubicBezTo>
                    <a:pt x="10345" y="92"/>
                    <a:pt x="10083" y="0"/>
                    <a:pt x="9821" y="0"/>
                  </a:cubicBez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7" name="Google Shape;3176;p34"/>
            <p:cNvSpPr/>
            <p:nvPr/>
          </p:nvSpPr>
          <p:spPr>
            <a:xfrm>
              <a:off x="8592840" y="5321880"/>
              <a:ext cx="146880" cy="150120"/>
            </a:xfrm>
            <a:custGeom>
              <a:avLst/>
              <a:gdLst/>
              <a:ahLst/>
              <a:rect l="l" t="t" r="r" b="b"/>
              <a:pathLst>
                <a:path w="14792" h="15168">
                  <a:moveTo>
                    <a:pt x="9143" y="2671"/>
                  </a:moveTo>
                  <a:cubicBezTo>
                    <a:pt x="9453" y="2671"/>
                    <a:pt x="9706" y="2924"/>
                    <a:pt x="9706" y="3237"/>
                  </a:cubicBezTo>
                  <a:lnTo>
                    <a:pt x="9706" y="6625"/>
                  </a:lnTo>
                  <a:cubicBezTo>
                    <a:pt x="9706" y="6935"/>
                    <a:pt x="9453" y="7188"/>
                    <a:pt x="9143" y="7188"/>
                  </a:cubicBezTo>
                  <a:lnTo>
                    <a:pt x="5755" y="7188"/>
                  </a:lnTo>
                  <a:cubicBezTo>
                    <a:pt x="5442" y="7188"/>
                    <a:pt x="5189" y="6935"/>
                    <a:pt x="5189" y="6625"/>
                  </a:cubicBezTo>
                  <a:lnTo>
                    <a:pt x="5189" y="3237"/>
                  </a:lnTo>
                  <a:cubicBezTo>
                    <a:pt x="5189" y="2924"/>
                    <a:pt x="5442" y="2671"/>
                    <a:pt x="5755" y="2671"/>
                  </a:cubicBezTo>
                  <a:lnTo>
                    <a:pt x="9143" y="2671"/>
                  </a:lnTo>
                  <a:close/>
                  <a:moveTo>
                    <a:pt x="7448" y="0"/>
                  </a:moveTo>
                  <a:lnTo>
                    <a:pt x="4" y="6291"/>
                  </a:lnTo>
                  <a:lnTo>
                    <a:pt x="4" y="14605"/>
                  </a:lnTo>
                  <a:cubicBezTo>
                    <a:pt x="1" y="14913"/>
                    <a:pt x="254" y="15168"/>
                    <a:pt x="564" y="15168"/>
                  </a:cubicBezTo>
                  <a:cubicBezTo>
                    <a:pt x="566" y="15168"/>
                    <a:pt x="568" y="15168"/>
                    <a:pt x="570" y="15168"/>
                  </a:cubicBezTo>
                  <a:lnTo>
                    <a:pt x="4060" y="15168"/>
                  </a:lnTo>
                  <a:lnTo>
                    <a:pt x="4060" y="8883"/>
                  </a:lnTo>
                  <a:cubicBezTo>
                    <a:pt x="4060" y="8570"/>
                    <a:pt x="4313" y="8317"/>
                    <a:pt x="4626" y="8317"/>
                  </a:cubicBezTo>
                  <a:lnTo>
                    <a:pt x="10272" y="8317"/>
                  </a:lnTo>
                  <a:cubicBezTo>
                    <a:pt x="10582" y="8317"/>
                    <a:pt x="10835" y="8570"/>
                    <a:pt x="10835" y="8883"/>
                  </a:cubicBezTo>
                  <a:lnTo>
                    <a:pt x="10835" y="15168"/>
                  </a:lnTo>
                  <a:lnTo>
                    <a:pt x="14223" y="15168"/>
                  </a:lnTo>
                  <a:cubicBezTo>
                    <a:pt x="14225" y="15168"/>
                    <a:pt x="14227" y="15168"/>
                    <a:pt x="14228" y="15168"/>
                  </a:cubicBezTo>
                  <a:cubicBezTo>
                    <a:pt x="14539" y="15168"/>
                    <a:pt x="14792" y="14913"/>
                    <a:pt x="14789" y="14605"/>
                  </a:cubicBezTo>
                  <a:lnTo>
                    <a:pt x="14789" y="6291"/>
                  </a:lnTo>
                  <a:lnTo>
                    <a:pt x="7448" y="0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040" bIns="59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8" name="Google Shape;3177;p34">
            <a:hlinkClick r:id="rId2" action="ppaction://hlinksldjump"/>
          </p:cNvPr>
          <p:cNvSpPr/>
          <p:nvPr/>
        </p:nvSpPr>
        <p:spPr>
          <a:xfrm>
            <a:off x="8416800" y="146520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Google Shape;3178;p34">
            <a:hlinkClick r:id="rId3" action="ppaction://hlinksldjump"/>
          </p:cNvPr>
          <p:cNvSpPr/>
          <p:nvPr/>
        </p:nvSpPr>
        <p:spPr>
          <a:xfrm>
            <a:off x="8416800" y="202896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2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Google Shape;3179;p34">
            <a:hlinkClick r:id="rId4" action="ppaction://hlinksldjump"/>
          </p:cNvPr>
          <p:cNvSpPr/>
          <p:nvPr/>
        </p:nvSpPr>
        <p:spPr>
          <a:xfrm>
            <a:off x="8416800" y="256716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3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Google Shape;3180;p34">
            <a:hlinkClick r:id="rId5" action="ppaction://hlinksldjump"/>
          </p:cNvPr>
          <p:cNvSpPr/>
          <p:nvPr/>
        </p:nvSpPr>
        <p:spPr>
          <a:xfrm>
            <a:off x="8416800" y="312120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4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Google Shape;3181;p34"/>
          <p:cNvSpPr/>
          <p:nvPr/>
        </p:nvSpPr>
        <p:spPr>
          <a:xfrm>
            <a:off x="8416800" y="3691080"/>
            <a:ext cx="50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5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Google Shape;3182;p34"/>
          <p:cNvSpPr/>
          <p:nvPr/>
        </p:nvSpPr>
        <p:spPr>
          <a:xfrm>
            <a:off x="8416800" y="425448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6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Google Shape;3183;p34">
            <a:hlinkClick r:id="rId6" action="ppaction://hlinksldjump"/>
          </p:cNvPr>
          <p:cNvSpPr/>
          <p:nvPr/>
        </p:nvSpPr>
        <p:spPr>
          <a:xfrm>
            <a:off x="8472600" y="5229360"/>
            <a:ext cx="444240" cy="29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Google Shape;3185;p34">
            <a:hlinkClick r:id="rId7" action="ppaction://hlinksldjump"/>
          </p:cNvPr>
          <p:cNvSpPr/>
          <p:nvPr/>
        </p:nvSpPr>
        <p:spPr>
          <a:xfrm rot="8100000">
            <a:off x="8028000" y="1500120"/>
            <a:ext cx="169920" cy="169920"/>
          </a:xfrm>
          <a:custGeom>
            <a:avLst/>
            <a:gdLst/>
            <a:ahLst/>
            <a:rect l="l" t="t" r="r" b="b"/>
            <a:pathLst>
              <a:path w="169862" h="169862">
                <a:moveTo>
                  <a:pt x="0" y="0"/>
                </a:moveTo>
                <a:lnTo>
                  <a:pt x="169862" y="0"/>
                </a:lnTo>
                <a:lnTo>
                  <a:pt x="113242" y="56620"/>
                </a:lnTo>
                <a:lnTo>
                  <a:pt x="56620" y="56620"/>
                </a:lnTo>
                <a:lnTo>
                  <a:pt x="56620" y="113242"/>
                </a:lnTo>
                <a:lnTo>
                  <a:pt x="0" y="169862"/>
                </a:lnTo>
                <a:lnTo>
                  <a:pt x="0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78840" bIns="78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Imagen 2" descr=""/>
          <p:cNvPicPr/>
          <p:nvPr/>
        </p:nvPicPr>
        <p:blipFill>
          <a:blip r:embed="rId8"/>
          <a:srcRect l="45523" t="10327" r="0" b="0"/>
          <a:stretch/>
        </p:blipFill>
        <p:spPr>
          <a:xfrm>
            <a:off x="6764400" y="1662120"/>
            <a:ext cx="2335320" cy="3894120"/>
          </a:xfrm>
          <a:prstGeom prst="rect">
            <a:avLst/>
          </a:prstGeom>
          <a:ln w="0">
            <a:noFill/>
          </a:ln>
        </p:spPr>
      </p:pic>
      <p:sp>
        <p:nvSpPr>
          <p:cNvPr id="1417" name="CuadroTexto 3"/>
          <p:cNvSpPr/>
          <p:nvPr/>
        </p:nvSpPr>
        <p:spPr>
          <a:xfrm>
            <a:off x="6827760" y="1859040"/>
            <a:ext cx="11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Ravie"/>
              </a:rPr>
              <a:t>??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CuadroTexto 1"/>
          <p:cNvSpPr/>
          <p:nvPr/>
        </p:nvSpPr>
        <p:spPr>
          <a:xfrm>
            <a:off x="755640" y="5229360"/>
            <a:ext cx="59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Comic Sans MS"/>
              </a:rPr>
              <a:t>¿Qué arteria transporta sangre con dióxido de carbon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ang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0" name="Picture 4" descr="GlobbalcoNeutrophil"/>
          <p:cNvPicPr/>
          <p:nvPr/>
        </p:nvPicPr>
        <p:blipFill>
          <a:blip r:embed="rId1"/>
          <a:stretch/>
        </p:blipFill>
        <p:spPr>
          <a:xfrm>
            <a:off x="3537000" y="104292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6" descr=""/>
          <p:cNvPicPr/>
          <p:nvPr/>
        </p:nvPicPr>
        <p:blipFill>
          <a:blip r:embed="rId2"/>
          <a:stretch/>
        </p:blipFill>
        <p:spPr>
          <a:xfrm>
            <a:off x="5745240" y="3394080"/>
            <a:ext cx="2838240" cy="320040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7" descr="sangre"/>
          <p:cNvPicPr/>
          <p:nvPr/>
        </p:nvPicPr>
        <p:blipFill>
          <a:blip r:embed="rId3"/>
          <a:stretch/>
        </p:blipFill>
        <p:spPr>
          <a:xfrm>
            <a:off x="826920" y="290520"/>
            <a:ext cx="2160720" cy="2004840"/>
          </a:xfrm>
          <a:prstGeom prst="rect">
            <a:avLst/>
          </a:prstGeom>
          <a:ln w="0">
            <a:noFill/>
          </a:ln>
        </p:spPr>
      </p:pic>
      <p:sp>
        <p:nvSpPr>
          <p:cNvPr id="1423" name="Text Box 9"/>
          <p:cNvSpPr/>
          <p:nvPr/>
        </p:nvSpPr>
        <p:spPr>
          <a:xfrm>
            <a:off x="431640" y="2643120"/>
            <a:ext cx="5112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sangre esta formada po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ematíes (Glóbulos rojos): entre 4,5-5.000.000 mm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ucocitos (Glóbulos blancos) entre 6-7.000 mm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laquetas: entre 150000- 400000 mm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emoglobi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CuadroTexto 1"/>
          <p:cNvSpPr/>
          <p:nvPr/>
        </p:nvSpPr>
        <p:spPr>
          <a:xfrm>
            <a:off x="5364000" y="314280"/>
            <a:ext cx="3600720" cy="28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s un tejido formada por diferentes elementos, células sanguíneas, tales como glóbulos rojos, glóbulos blancos y plaquetas,  plasma, sales minerales, gases y nutrientes, todos ellos transportados por la sangr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Picture 2" descr="Sangre hematopoyesis"/>
          <p:cNvPicPr/>
          <p:nvPr/>
        </p:nvPicPr>
        <p:blipFill>
          <a:blip r:embed="rId1"/>
          <a:srcRect l="10764" t="0" r="0" b="0"/>
          <a:stretch/>
        </p:blipFill>
        <p:spPr>
          <a:xfrm>
            <a:off x="611280" y="549360"/>
            <a:ext cx="720072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lóbulos Roj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7" name="Picture 5" descr="eritrocitofoto2"/>
          <p:cNvPicPr/>
          <p:nvPr/>
        </p:nvPicPr>
        <p:blipFill>
          <a:blip r:embed="rId1"/>
          <a:stretch/>
        </p:blipFill>
        <p:spPr>
          <a:xfrm>
            <a:off x="395280" y="700200"/>
            <a:ext cx="3305160" cy="22096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9" descr="eritrocito"/>
          <p:cNvPicPr/>
          <p:nvPr/>
        </p:nvPicPr>
        <p:blipFill>
          <a:blip r:embed="rId2"/>
          <a:stretch/>
        </p:blipFill>
        <p:spPr>
          <a:xfrm>
            <a:off x="663480" y="2906640"/>
            <a:ext cx="2664000" cy="2035080"/>
          </a:xfrm>
          <a:prstGeom prst="rect">
            <a:avLst/>
          </a:prstGeom>
          <a:ln w="0">
            <a:noFill/>
          </a:ln>
        </p:spPr>
      </p:pic>
      <p:sp>
        <p:nvSpPr>
          <p:cNvPr id="1429" name="CuadroTexto 2"/>
          <p:cNvSpPr/>
          <p:nvPr/>
        </p:nvSpPr>
        <p:spPr>
          <a:xfrm>
            <a:off x="3781440" y="981000"/>
            <a:ext cx="460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os glóbulos rojos son células que en su membrana tienen una proteína llamada hemoglobina que se une a un átomo de fierro en que a su vez se une a un átomo de oxigeno por lo que  tienen la función de trasportar el oxígeno y el dióxido de carbono en la sangre y llevarlo a todas las células del cuer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u forma es de disco, no tienen núcleo, y tienen un diámetro de 6-8  micrómetr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0" name="Picture 6" descr="Funciones Generales de la Sangre y Globulos Rojos"/>
          <p:cNvPicPr/>
          <p:nvPr/>
        </p:nvPicPr>
        <p:blipFill>
          <a:blip r:embed="rId3"/>
          <a:srcRect l="0" t="17445" r="0" b="35719"/>
          <a:stretch/>
        </p:blipFill>
        <p:spPr>
          <a:xfrm>
            <a:off x="0" y="5116680"/>
            <a:ext cx="3843360" cy="1625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CuadroTexto 3"/>
          <p:cNvSpPr/>
          <p:nvPr/>
        </p:nvSpPr>
        <p:spPr>
          <a:xfrm>
            <a:off x="1012680" y="12384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Comic Sans MS"/>
              </a:rPr>
              <a:t>¿Cómo esta formado el S. Circulatori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9" name="Picture 2" descr="Cómo está compuesto el sistema circulatorio? | Imagenes del aparato  respiratorio, Dibujo del aparato circulatorio, Cuerpo humano para niños"/>
          <p:cNvPicPr/>
          <p:nvPr/>
        </p:nvPicPr>
        <p:blipFill>
          <a:blip r:embed="rId1"/>
          <a:stretch/>
        </p:blipFill>
        <p:spPr>
          <a:xfrm>
            <a:off x="468360" y="647640"/>
            <a:ext cx="4330800" cy="600876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4" descr="Niña, Científico Fotos, Retratos, Imágenes Y Fotografía De Archivo Libres  De Derecho. Image 76848872."/>
          <p:cNvPicPr/>
          <p:nvPr/>
        </p:nvPicPr>
        <p:blipFill>
          <a:blip r:embed="rId2"/>
          <a:srcRect l="10980" t="0" r="10936" b="0"/>
          <a:stretch/>
        </p:blipFill>
        <p:spPr>
          <a:xfrm>
            <a:off x="6616800" y="560520"/>
            <a:ext cx="2347920" cy="4452840"/>
          </a:xfrm>
          <a:prstGeom prst="rect">
            <a:avLst/>
          </a:prstGeom>
          <a:ln w="0">
            <a:noFill/>
          </a:ln>
        </p:spPr>
      </p:pic>
      <p:sp>
        <p:nvSpPr>
          <p:cNvPr id="1331" name="CuadroTexto 5"/>
          <p:cNvSpPr/>
          <p:nvPr/>
        </p:nvSpPr>
        <p:spPr>
          <a:xfrm>
            <a:off x="5076720" y="1989000"/>
            <a:ext cx="191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RAZ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ARTER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VE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API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91840" y="11088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lóbulos Blanc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2" name="Picture 4" descr="GblancoMonozyt"/>
          <p:cNvPicPr/>
          <p:nvPr/>
        </p:nvPicPr>
        <p:blipFill>
          <a:blip r:embed="rId1"/>
          <a:stretch/>
        </p:blipFill>
        <p:spPr>
          <a:xfrm>
            <a:off x="592200" y="11174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5" descr="GblancoLymphocyte_GL"/>
          <p:cNvPicPr/>
          <p:nvPr/>
        </p:nvPicPr>
        <p:blipFill>
          <a:blip r:embed="rId2"/>
          <a:stretch/>
        </p:blipFill>
        <p:spPr>
          <a:xfrm>
            <a:off x="682560" y="4883040"/>
            <a:ext cx="1524240" cy="14353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6" descr="GblancoEosinophil"/>
          <p:cNvPicPr/>
          <p:nvPr/>
        </p:nvPicPr>
        <p:blipFill>
          <a:blip r:embed="rId3"/>
          <a:stretch/>
        </p:blipFill>
        <p:spPr>
          <a:xfrm>
            <a:off x="6492960" y="4753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7" descr="GblancoBasophil"/>
          <p:cNvPicPr/>
          <p:nvPr/>
        </p:nvPicPr>
        <p:blipFill>
          <a:blip r:embed="rId4"/>
          <a:stretch/>
        </p:blipFill>
        <p:spPr>
          <a:xfrm>
            <a:off x="6243480" y="10731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9" descr="eosinofilo"/>
          <p:cNvPicPr/>
          <p:nvPr/>
        </p:nvPicPr>
        <p:blipFill>
          <a:blip r:embed="rId5"/>
          <a:stretch/>
        </p:blipFill>
        <p:spPr>
          <a:xfrm>
            <a:off x="192240" y="2838600"/>
            <a:ext cx="2504880" cy="184788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1" descr="neutrofilo"/>
          <p:cNvPicPr/>
          <p:nvPr/>
        </p:nvPicPr>
        <p:blipFill>
          <a:blip r:embed="rId6"/>
          <a:stretch/>
        </p:blipFill>
        <p:spPr>
          <a:xfrm>
            <a:off x="6492960" y="2760840"/>
            <a:ext cx="2431800" cy="1819080"/>
          </a:xfrm>
          <a:prstGeom prst="rect">
            <a:avLst/>
          </a:prstGeom>
          <a:ln w="0">
            <a:noFill/>
          </a:ln>
        </p:spPr>
      </p:pic>
      <p:sp>
        <p:nvSpPr>
          <p:cNvPr id="1438" name="CuadroTexto 1"/>
          <p:cNvSpPr/>
          <p:nvPr/>
        </p:nvSpPr>
        <p:spPr>
          <a:xfrm>
            <a:off x="2697120" y="725400"/>
            <a:ext cx="33433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mic Sans MS"/>
              </a:rPr>
              <a:t>Son células sanguíneas de diferentes tipos y formas que tienen la función de defensa del organismo al destruir a los patógenos que puedan ingresar a nuestro cuerpo, se encuentran patrullando nuestro cuerpo y son capaces de atravesar los tejidos en la búsqueda de los invasore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mic Sans MS"/>
              </a:rPr>
              <a:t>Tienen diferentes formas y su tamaño esta entre los 8 y 20 micrómetr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aquet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0" name="Picture 4" descr="plaquetas eritrocitos"/>
          <p:cNvPicPr/>
          <p:nvPr/>
        </p:nvPicPr>
        <p:blipFill>
          <a:blip r:embed="rId1"/>
          <a:stretch/>
        </p:blipFill>
        <p:spPr>
          <a:xfrm>
            <a:off x="4572000" y="2060640"/>
            <a:ext cx="2063880" cy="15937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5" descr="plaquetas"/>
          <p:cNvPicPr/>
          <p:nvPr/>
        </p:nvPicPr>
        <p:blipFill>
          <a:blip r:embed="rId2"/>
          <a:stretch/>
        </p:blipFill>
        <p:spPr>
          <a:xfrm>
            <a:off x="455760" y="1100160"/>
            <a:ext cx="3519360" cy="282420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6" descr="plaqueta"/>
          <p:cNvPicPr/>
          <p:nvPr/>
        </p:nvPicPr>
        <p:blipFill>
          <a:blip r:embed="rId3"/>
          <a:stretch/>
        </p:blipFill>
        <p:spPr>
          <a:xfrm>
            <a:off x="1708200" y="4437000"/>
            <a:ext cx="2495520" cy="1857600"/>
          </a:xfrm>
          <a:prstGeom prst="rect">
            <a:avLst/>
          </a:prstGeom>
          <a:ln w="0">
            <a:noFill/>
          </a:ln>
        </p:spPr>
      </p:pic>
      <p:sp>
        <p:nvSpPr>
          <p:cNvPr id="1443" name="Flecha: hacia abajo 1"/>
          <p:cNvSpPr/>
          <p:nvPr/>
        </p:nvSpPr>
        <p:spPr>
          <a:xfrm>
            <a:off x="5332320" y="941400"/>
            <a:ext cx="72072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Flecha: hacia abajo 6"/>
          <p:cNvSpPr/>
          <p:nvPr/>
        </p:nvSpPr>
        <p:spPr>
          <a:xfrm>
            <a:off x="2411280" y="3973680"/>
            <a:ext cx="72072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CuadroTexto 2"/>
          <p:cNvSpPr/>
          <p:nvPr/>
        </p:nvSpPr>
        <p:spPr>
          <a:xfrm>
            <a:off x="4643280" y="3924360"/>
            <a:ext cx="331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También llamadas trombocitos, son trozos  células que participan en la coagulación de la sang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Su forma es variable y su tamaño es de 2 a 3 micrómetr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79280" y="25560"/>
            <a:ext cx="6870960" cy="9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PLASMA SANGUÍNE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55680" y="213372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MPOSI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TEI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GRAS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TR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8" name="Picture 2" descr="Pakapaka - Sofia es científica y hoy celebramos el Día Internacional de la  Mujer y la Niña en la Ciencia. #CienciaZapata #CienciaConTodas #Mujeres # Niñas #CIencia #Pakapaka | Facebook"/>
          <p:cNvPicPr/>
          <p:nvPr/>
        </p:nvPicPr>
        <p:blipFill>
          <a:blip r:embed="rId1"/>
          <a:srcRect l="18629" t="6266" r="10835" b="5594"/>
          <a:stretch/>
        </p:blipFill>
        <p:spPr>
          <a:xfrm>
            <a:off x="5219640" y="907920"/>
            <a:ext cx="267192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Grupos sanguíne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6227640" y="3141720"/>
          <a:ext cx="1978200" cy="2590920"/>
        </p:xfrm>
        <a:graphic>
          <a:graphicData uri="http://schemas.openxmlformats.org/drawingml/2006/table">
            <a:tbl>
              <a:tblPr/>
              <a:tblGrid>
                <a:gridCol w="658800"/>
                <a:gridCol w="660600"/>
                <a:gridCol w="65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Verdana Ref"/>
                        </a:rPr>
                        <a:t>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Verdana Ref"/>
                        </a:rPr>
                        <a:t>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2" name="Picture 5" descr=""/>
          <p:cNvPicPr/>
          <p:nvPr/>
        </p:nvPicPr>
        <p:blipFill>
          <a:blip r:embed="rId1"/>
          <a:stretch/>
        </p:blipFill>
        <p:spPr>
          <a:xfrm rot="21439800">
            <a:off x="114480" y="1523880"/>
            <a:ext cx="2076120" cy="4981680"/>
          </a:xfrm>
          <a:prstGeom prst="rect">
            <a:avLst/>
          </a:prstGeom>
          <a:ln w="0">
            <a:noFill/>
          </a:ln>
        </p:spPr>
      </p:pic>
      <p:sp>
        <p:nvSpPr>
          <p:cNvPr id="1453" name="Rectangle 6"/>
          <p:cNvSpPr/>
          <p:nvPr/>
        </p:nvSpPr>
        <p:spPr>
          <a:xfrm>
            <a:off x="6084720" y="1413000"/>
            <a:ext cx="223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actor Rh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Rectangle 66"/>
          <p:cNvSpPr/>
          <p:nvPr/>
        </p:nvSpPr>
        <p:spPr>
          <a:xfrm>
            <a:off x="1835280" y="1557360"/>
            <a:ext cx="324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*A  *B  AB  *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55" name=""/>
          <p:cNvGraphicFramePr/>
          <p:nvPr/>
        </p:nvGraphicFramePr>
        <p:xfrm>
          <a:off x="2463840" y="2611440"/>
          <a:ext cx="2808360" cy="2424240"/>
        </p:xfrm>
        <a:graphic>
          <a:graphicData uri="http://schemas.openxmlformats.org/drawingml/2006/table">
            <a:tbl>
              <a:tblPr/>
              <a:tblGrid>
                <a:gridCol w="695160"/>
                <a:gridCol w="1032120"/>
                <a:gridCol w="1081080"/>
              </a:tblGrid>
              <a:tr h="35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I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, A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, 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, A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, 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29840" y="11592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Trastornos circulator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Rectangle 5"/>
          <p:cNvSpPr/>
          <p:nvPr/>
        </p:nvSpPr>
        <p:spPr>
          <a:xfrm>
            <a:off x="484200" y="108900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FERMEDADES DEL CORAZ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gunos niños nacen con un defecto en el corazón que puede curarse con cirugía. Sin embargo, la gran mayoría de las enfermedades del corazón afectan a las personas mayores. Con el tiempo, igual que sucede con el resto de nuestro cuerpo, el corazón también enveje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 esta razón, puede suceder que las paredes del corazón pierdan fuerza para contraerse y bombear la sangre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insuficiencia cardiaca);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uede que alguna zona no reciba el oxígeno suficiente y deje de funcionar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infarto de miocardio);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uede que las válvulas cardiacas ya no abran ni cierren bien (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sanchamient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estrechez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e las válvula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del corazón); o puede que el ritmo con el que el corazón se contrae se altere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arritmias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8" name="Picture 7" descr="trasplante corazon"/>
          <p:cNvPicPr/>
          <p:nvPr/>
        </p:nvPicPr>
        <p:blipFill>
          <a:blip r:embed="rId1"/>
          <a:stretch/>
        </p:blipFill>
        <p:spPr>
          <a:xfrm>
            <a:off x="6732720" y="5122800"/>
            <a:ext cx="192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Cuidados del Sistema Circul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13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ara cuidar el corazón, es muy importante llevar una vida sana, hacer deporte con moderación y alimentarte de forma equilibrada. También debes saber que el tabaco y el alcohol pueden hacer mucho daño a tu corazón, a tus pulmones y a tus arterias. ¡Una vida sana es imprescindible para que tu corazón se mantenga fuerte durante muchos año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1" name="Picture 4" descr="medicamentos"/>
          <p:cNvPicPr/>
          <p:nvPr/>
        </p:nvPicPr>
        <p:blipFill>
          <a:blip r:embed="rId1"/>
          <a:stretch/>
        </p:blipFill>
        <p:spPr>
          <a:xfrm>
            <a:off x="39528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5" descr="j0237789[1]"/>
          <p:cNvPicPr/>
          <p:nvPr/>
        </p:nvPicPr>
        <p:blipFill>
          <a:blip r:embed="rId2"/>
          <a:stretch/>
        </p:blipFill>
        <p:spPr>
          <a:xfrm>
            <a:off x="6916680" y="0"/>
            <a:ext cx="2227320" cy="178452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6" descr="corazon3"/>
          <p:cNvPicPr/>
          <p:nvPr/>
        </p:nvPicPr>
        <p:blipFill>
          <a:blip r:embed="rId3"/>
          <a:stretch/>
        </p:blipFill>
        <p:spPr>
          <a:xfrm>
            <a:off x="7093080" y="4941720"/>
            <a:ext cx="14475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Función del Sistema Circul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a sangre lleva a cada célula los nutrientes necesarios y, a cambio, recibe sustancias de desecho que arrastrará en su recorrido hasta los órganos excretores, para así mantener el equilibrio de sustancias de desecho y nutrientes en el organ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3 Marcador de número de diapositiva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0A6C-4F76-4769-9E22-C6119D371A31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5" name="Picture 7" descr="25260"/>
          <p:cNvPicPr/>
          <p:nvPr/>
        </p:nvPicPr>
        <p:blipFill>
          <a:blip r:embed="rId1"/>
          <a:srcRect l="1792" t="5539" r="2687" b="4299"/>
          <a:stretch/>
        </p:blipFill>
        <p:spPr>
          <a:xfrm>
            <a:off x="108000" y="34920"/>
            <a:ext cx="9036000" cy="6603840"/>
          </a:xfrm>
          <a:prstGeom prst="rect">
            <a:avLst/>
          </a:prstGeom>
          <a:ln w="0">
            <a:noFill/>
          </a:ln>
        </p:spPr>
      </p:pic>
      <p:sp>
        <p:nvSpPr>
          <p:cNvPr id="1336" name="Text Box 8"/>
          <p:cNvSpPr/>
          <p:nvPr/>
        </p:nvSpPr>
        <p:spPr>
          <a:xfrm>
            <a:off x="2340000" y="623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4000" y="19080"/>
            <a:ext cx="687060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Corazó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95280" y="969840"/>
            <a:ext cx="8282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¿CÓMO FUNCIONA EL CORAZÓ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 sangre entra en el corazón, pasa de una cavidad a otra y sale del corazón. Las paredes que forman las cavidades del corazón están constituidas por un músculo muy potente, el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músculo cardiac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MOVIMIENTOS DEL CORAZ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ontracción del corazón se lla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sístole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relajación del corazón se lla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iast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mic Sans MS"/>
              </a:rPr>
              <a:t>¿QUIÉN CONTROLA TU CORAZÓ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Tu corazón trabaja de forma automática. Tú no controlas de forma consciente los latidos del corazón. Durante el día trabaja y también lo hace por la noche, cuando duermes. El ritmo de tu corazón está controlado por el tronco cerebral, una parte de tu encéfalo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9" name="Picture 24" descr="BD20092_[1]"/>
          <p:cNvPicPr/>
          <p:nvPr/>
        </p:nvPicPr>
        <p:blipFill>
          <a:blip r:embed="rId1"/>
          <a:stretch/>
        </p:blipFill>
        <p:spPr>
          <a:xfrm>
            <a:off x="6948360" y="19080"/>
            <a:ext cx="1729080" cy="120312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25" descr="corazon5"/>
          <p:cNvPicPr/>
          <p:nvPr/>
        </p:nvPicPr>
        <p:blipFill>
          <a:blip r:embed="rId2"/>
          <a:srcRect l="6359" t="0" r="3610" b="4689"/>
          <a:stretch/>
        </p:blipFill>
        <p:spPr>
          <a:xfrm>
            <a:off x="4529160" y="2160720"/>
            <a:ext cx="439272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0CB-6DE9-4BAC-99B6-CABCC0FDBFB6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2" name="Picture 5" descr="23759"/>
          <p:cNvPicPr/>
          <p:nvPr/>
        </p:nvPicPr>
        <p:blipFill>
          <a:blip r:embed="rId1"/>
          <a:stretch/>
        </p:blipFill>
        <p:spPr>
          <a:xfrm>
            <a:off x="0" y="752400"/>
            <a:ext cx="6481800" cy="610560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 txBox="1"/>
          <p:nvPr/>
        </p:nvSpPr>
        <p:spPr>
          <a:xfrm>
            <a:off x="122040" y="122040"/>
            <a:ext cx="6127560" cy="736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vidades del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7"/>
          <p:cNvSpPr/>
          <p:nvPr/>
        </p:nvSpPr>
        <p:spPr>
          <a:xfrm>
            <a:off x="6443640" y="449280"/>
            <a:ext cx="270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l corazón está hecho de un músculo que se contrae y dilata (se mueve, late) rítmicamente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6600ff"/>
                </a:solidFill>
                <a:latin typeface="Arial"/>
              </a:rPr>
              <a:t>Tiene cuatro cavidades en su interior, dos superiores, más pequeñas, a las que les llega sangre: las aurículas; y, dos inferiores, más grandes, desde donde es impulsada la sangre hacia fuera del corazón, llamadas ventrículos</a:t>
            </a:r>
            <a:r>
              <a:rPr b="0" lang="es-ES" sz="1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10920" y="14400"/>
            <a:ext cx="769140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CÓMO IMPULSA LA SANGRE EL CORAZ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5505120" y="3403080"/>
            <a:ext cx="855720" cy="287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subTitle"/>
          </p:nvPr>
        </p:nvSpPr>
        <p:spPr>
          <a:xfrm>
            <a:off x="6554520" y="3403080"/>
            <a:ext cx="855720" cy="287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subTitle"/>
          </p:nvPr>
        </p:nvSpPr>
        <p:spPr>
          <a:xfrm>
            <a:off x="5505120" y="4632480"/>
            <a:ext cx="855720" cy="288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ubTitle"/>
          </p:nvPr>
        </p:nvSpPr>
        <p:spPr>
          <a:xfrm>
            <a:off x="6554520" y="4632480"/>
            <a:ext cx="855720" cy="288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Google Shape;2018;p27"/>
          <p:cNvGrpSpPr/>
          <p:nvPr/>
        </p:nvGrpSpPr>
        <p:grpSpPr>
          <a:xfrm>
            <a:off x="8569440" y="5281560"/>
            <a:ext cx="193680" cy="190440"/>
            <a:chOff x="8569440" y="5281560"/>
            <a:chExt cx="193680" cy="190440"/>
          </a:xfrm>
        </p:grpSpPr>
        <p:sp>
          <p:nvSpPr>
            <p:cNvPr id="1351" name="Google Shape;2019;p27"/>
            <p:cNvSpPr/>
            <p:nvPr/>
          </p:nvSpPr>
          <p:spPr>
            <a:xfrm>
              <a:off x="8706600" y="5292720"/>
              <a:ext cx="32760" cy="30960"/>
            </a:xfrm>
            <a:custGeom>
              <a:avLst/>
              <a:gdLst/>
              <a:ahLst/>
              <a:rect l="l" t="t" r="r" b="b"/>
              <a:pathLst>
                <a:path w="3326" h="3130">
                  <a:moveTo>
                    <a:pt x="482" y="1"/>
                  </a:moveTo>
                  <a:cubicBezTo>
                    <a:pt x="280" y="1"/>
                    <a:pt x="95" y="114"/>
                    <a:pt x="1" y="293"/>
                  </a:cubicBezTo>
                  <a:lnTo>
                    <a:pt x="3322" y="3130"/>
                  </a:lnTo>
                  <a:lnTo>
                    <a:pt x="3322" y="564"/>
                  </a:lnTo>
                  <a:cubicBezTo>
                    <a:pt x="3325" y="253"/>
                    <a:pt x="3072" y="1"/>
                    <a:pt x="2761" y="1"/>
                  </a:cubicBezTo>
                  <a:cubicBezTo>
                    <a:pt x="2760" y="1"/>
                    <a:pt x="2758" y="1"/>
                    <a:pt x="2756" y="1"/>
                  </a:cubicBezTo>
                  <a:lnTo>
                    <a:pt x="497" y="1"/>
                  </a:lnTo>
                  <a:cubicBezTo>
                    <a:pt x="492" y="1"/>
                    <a:pt x="487" y="1"/>
                    <a:pt x="482" y="1"/>
                  </a:cubicBez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0120" bIns="-60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Google Shape;2020;p27"/>
            <p:cNvSpPr/>
            <p:nvPr/>
          </p:nvSpPr>
          <p:spPr>
            <a:xfrm>
              <a:off x="8644680" y="5415480"/>
              <a:ext cx="44640" cy="56520"/>
            </a:xfrm>
            <a:custGeom>
              <a:avLst/>
              <a:gdLst/>
              <a:ahLst/>
              <a:rect l="l" t="t" r="r" b="b"/>
              <a:pathLst>
                <a:path w="4518" h="5722">
                  <a:moveTo>
                    <a:pt x="2822" y="1130"/>
                  </a:moveTo>
                  <a:cubicBezTo>
                    <a:pt x="3325" y="1130"/>
                    <a:pt x="3578" y="1738"/>
                    <a:pt x="3222" y="2093"/>
                  </a:cubicBezTo>
                  <a:cubicBezTo>
                    <a:pt x="3106" y="2209"/>
                    <a:pt x="2964" y="2260"/>
                    <a:pt x="2825" y="2260"/>
                  </a:cubicBezTo>
                  <a:cubicBezTo>
                    <a:pt x="2535" y="2260"/>
                    <a:pt x="2259" y="2036"/>
                    <a:pt x="2259" y="1696"/>
                  </a:cubicBezTo>
                  <a:cubicBezTo>
                    <a:pt x="2259" y="1383"/>
                    <a:pt x="2509" y="1130"/>
                    <a:pt x="2822" y="1130"/>
                  </a:cubicBezTo>
                  <a:close/>
                  <a:moveTo>
                    <a:pt x="0" y="1"/>
                  </a:moveTo>
                  <a:lnTo>
                    <a:pt x="0" y="5722"/>
                  </a:lnTo>
                  <a:lnTo>
                    <a:pt x="4517" y="5722"/>
                  </a:lnTo>
                  <a:lnTo>
                    <a:pt x="4517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3" name="Google Shape;2021;p27"/>
            <p:cNvSpPr/>
            <p:nvPr/>
          </p:nvSpPr>
          <p:spPr>
            <a:xfrm>
              <a:off x="8655480" y="5359680"/>
              <a:ext cx="22320" cy="22320"/>
            </a:xfrm>
            <a:custGeom>
              <a:avLst/>
              <a:gdLst/>
              <a:ahLst/>
              <a:rect l="l" t="t" r="r" b="b"/>
              <a:pathLst>
                <a:path w="2259" h="2259">
                  <a:moveTo>
                    <a:pt x="0" y="0"/>
                  </a:moveTo>
                  <a:lnTo>
                    <a:pt x="0" y="2259"/>
                  </a:lnTo>
                  <a:lnTo>
                    <a:pt x="2259" y="2259"/>
                  </a:lnTo>
                  <a:lnTo>
                    <a:pt x="22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8760" bIns="-68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4" name="Google Shape;2022;p27"/>
            <p:cNvSpPr/>
            <p:nvPr/>
          </p:nvSpPr>
          <p:spPr>
            <a:xfrm>
              <a:off x="8569440" y="5281560"/>
              <a:ext cx="193680" cy="93960"/>
            </a:xfrm>
            <a:custGeom>
              <a:avLst/>
              <a:gdLst/>
              <a:ahLst/>
              <a:rect l="l" t="t" r="r" b="b"/>
              <a:pathLst>
                <a:path w="19529" h="9513">
                  <a:moveTo>
                    <a:pt x="9821" y="0"/>
                  </a:moveTo>
                  <a:cubicBezTo>
                    <a:pt x="9559" y="0"/>
                    <a:pt x="9297" y="92"/>
                    <a:pt x="9086" y="276"/>
                  </a:cubicBezTo>
                  <a:lnTo>
                    <a:pt x="531" y="7521"/>
                  </a:lnTo>
                  <a:cubicBezTo>
                    <a:pt x="61" y="7921"/>
                    <a:pt x="1" y="8626"/>
                    <a:pt x="395" y="9099"/>
                  </a:cubicBezTo>
                  <a:cubicBezTo>
                    <a:pt x="620" y="9369"/>
                    <a:pt x="942" y="9508"/>
                    <a:pt x="1266" y="9508"/>
                  </a:cubicBezTo>
                  <a:cubicBezTo>
                    <a:pt x="1525" y="9508"/>
                    <a:pt x="1785" y="9419"/>
                    <a:pt x="1997" y="9237"/>
                  </a:cubicBezTo>
                  <a:lnTo>
                    <a:pt x="9821" y="2622"/>
                  </a:lnTo>
                  <a:lnTo>
                    <a:pt x="17544" y="9240"/>
                  </a:lnTo>
                  <a:cubicBezTo>
                    <a:pt x="17759" y="9425"/>
                    <a:pt x="18019" y="9513"/>
                    <a:pt x="18278" y="9513"/>
                  </a:cubicBezTo>
                  <a:cubicBezTo>
                    <a:pt x="18661" y="9513"/>
                    <a:pt x="19039" y="9318"/>
                    <a:pt x="19252" y="8954"/>
                  </a:cubicBezTo>
                  <a:cubicBezTo>
                    <a:pt x="19529" y="8482"/>
                    <a:pt x="19430" y="7879"/>
                    <a:pt x="19014" y="7524"/>
                  </a:cubicBezTo>
                  <a:lnTo>
                    <a:pt x="10555" y="276"/>
                  </a:lnTo>
                  <a:cubicBezTo>
                    <a:pt x="10345" y="92"/>
                    <a:pt x="10083" y="0"/>
                    <a:pt x="9821" y="0"/>
                  </a:cubicBez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5" name="Google Shape;2023;p27"/>
            <p:cNvSpPr/>
            <p:nvPr/>
          </p:nvSpPr>
          <p:spPr>
            <a:xfrm>
              <a:off x="8592840" y="5321880"/>
              <a:ext cx="146880" cy="150120"/>
            </a:xfrm>
            <a:custGeom>
              <a:avLst/>
              <a:gdLst/>
              <a:ahLst/>
              <a:rect l="l" t="t" r="r" b="b"/>
              <a:pathLst>
                <a:path w="14792" h="15168">
                  <a:moveTo>
                    <a:pt x="9143" y="2671"/>
                  </a:moveTo>
                  <a:cubicBezTo>
                    <a:pt x="9453" y="2671"/>
                    <a:pt x="9706" y="2924"/>
                    <a:pt x="9706" y="3237"/>
                  </a:cubicBezTo>
                  <a:lnTo>
                    <a:pt x="9706" y="6625"/>
                  </a:lnTo>
                  <a:cubicBezTo>
                    <a:pt x="9706" y="6935"/>
                    <a:pt x="9453" y="7188"/>
                    <a:pt x="9143" y="7188"/>
                  </a:cubicBezTo>
                  <a:lnTo>
                    <a:pt x="5755" y="7188"/>
                  </a:lnTo>
                  <a:cubicBezTo>
                    <a:pt x="5442" y="7188"/>
                    <a:pt x="5189" y="6935"/>
                    <a:pt x="5189" y="6625"/>
                  </a:cubicBezTo>
                  <a:lnTo>
                    <a:pt x="5189" y="3237"/>
                  </a:lnTo>
                  <a:cubicBezTo>
                    <a:pt x="5189" y="2924"/>
                    <a:pt x="5442" y="2671"/>
                    <a:pt x="5755" y="2671"/>
                  </a:cubicBezTo>
                  <a:lnTo>
                    <a:pt x="9143" y="2671"/>
                  </a:lnTo>
                  <a:close/>
                  <a:moveTo>
                    <a:pt x="7448" y="0"/>
                  </a:moveTo>
                  <a:lnTo>
                    <a:pt x="4" y="6291"/>
                  </a:lnTo>
                  <a:lnTo>
                    <a:pt x="4" y="14605"/>
                  </a:lnTo>
                  <a:cubicBezTo>
                    <a:pt x="1" y="14913"/>
                    <a:pt x="254" y="15168"/>
                    <a:pt x="564" y="15168"/>
                  </a:cubicBezTo>
                  <a:cubicBezTo>
                    <a:pt x="566" y="15168"/>
                    <a:pt x="568" y="15168"/>
                    <a:pt x="570" y="15168"/>
                  </a:cubicBezTo>
                  <a:lnTo>
                    <a:pt x="4060" y="15168"/>
                  </a:lnTo>
                  <a:lnTo>
                    <a:pt x="4060" y="8883"/>
                  </a:lnTo>
                  <a:cubicBezTo>
                    <a:pt x="4060" y="8570"/>
                    <a:pt x="4313" y="8317"/>
                    <a:pt x="4626" y="8317"/>
                  </a:cubicBezTo>
                  <a:lnTo>
                    <a:pt x="10272" y="8317"/>
                  </a:lnTo>
                  <a:cubicBezTo>
                    <a:pt x="10582" y="8317"/>
                    <a:pt x="10835" y="8570"/>
                    <a:pt x="10835" y="8883"/>
                  </a:cubicBezTo>
                  <a:lnTo>
                    <a:pt x="10835" y="15168"/>
                  </a:lnTo>
                  <a:lnTo>
                    <a:pt x="14223" y="15168"/>
                  </a:lnTo>
                  <a:cubicBezTo>
                    <a:pt x="14225" y="15168"/>
                    <a:pt x="14227" y="15168"/>
                    <a:pt x="14228" y="15168"/>
                  </a:cubicBezTo>
                  <a:cubicBezTo>
                    <a:pt x="14539" y="15168"/>
                    <a:pt x="14792" y="14913"/>
                    <a:pt x="14789" y="14605"/>
                  </a:cubicBezTo>
                  <a:lnTo>
                    <a:pt x="14789" y="6291"/>
                  </a:lnTo>
                  <a:lnTo>
                    <a:pt x="7448" y="0"/>
                  </a:lnTo>
                  <a:close/>
                </a:path>
              </a:pathLst>
            </a:custGeom>
            <a:solidFill>
              <a:srgbClr val="0e2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9040" bIns="59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6" name="Google Shape;2025;p27">
            <a:hlinkClick r:id="rId1" action="ppaction://hlinksldjump"/>
          </p:cNvPr>
          <p:cNvSpPr/>
          <p:nvPr/>
        </p:nvSpPr>
        <p:spPr>
          <a:xfrm>
            <a:off x="8416800" y="202896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Google Shape;2027;p27">
            <a:hlinkClick r:id="rId2" action="ppaction://hlinksldjump"/>
          </p:cNvPr>
          <p:cNvSpPr/>
          <p:nvPr/>
        </p:nvSpPr>
        <p:spPr>
          <a:xfrm>
            <a:off x="8416800" y="312120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4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Google Shape;2028;p27"/>
          <p:cNvSpPr/>
          <p:nvPr/>
        </p:nvSpPr>
        <p:spPr>
          <a:xfrm>
            <a:off x="8416800" y="3691080"/>
            <a:ext cx="500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5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Google Shape;2029;p27"/>
          <p:cNvSpPr/>
          <p:nvPr/>
        </p:nvSpPr>
        <p:spPr>
          <a:xfrm>
            <a:off x="8416800" y="4254480"/>
            <a:ext cx="50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e2a47"/>
                </a:solidFill>
                <a:latin typeface="Jua"/>
                <a:ea typeface="Jua"/>
              </a:rPr>
              <a:t>06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0" name="1 Grupo"/>
          <p:cNvGrpSpPr/>
          <p:nvPr/>
        </p:nvGrpSpPr>
        <p:grpSpPr>
          <a:xfrm>
            <a:off x="2198520" y="2206800"/>
            <a:ext cx="6718320" cy="2814480"/>
            <a:chOff x="2198520" y="2206800"/>
            <a:chExt cx="6718320" cy="2814480"/>
          </a:xfrm>
        </p:grpSpPr>
        <p:pic>
          <p:nvPicPr>
            <p:cNvPr id="1361" name="Imagen 247" descr="Sistema cardiovascular. El corazón (página 2) - Monografias.com"/>
            <p:cNvPicPr/>
            <p:nvPr/>
          </p:nvPicPr>
          <p:blipFill>
            <a:blip r:embed="rId3"/>
            <a:srcRect l="1523" t="5799" r="1189" b="5799"/>
            <a:stretch/>
          </p:blipFill>
          <p:spPr>
            <a:xfrm>
              <a:off x="2198520" y="2206800"/>
              <a:ext cx="4746600" cy="27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Imagen 248" descr="Sistema circulatorio.. El sistema circulatorio en el ser humano, comprende:  - ppt descargar"/>
            <p:cNvPicPr/>
            <p:nvPr/>
          </p:nvPicPr>
          <p:blipFill>
            <a:blip r:embed="rId4"/>
            <a:srcRect l="7822" t="8498" r="8656" b="10907"/>
            <a:stretch/>
          </p:blipFill>
          <p:spPr>
            <a:xfrm>
              <a:off x="5013000" y="2623320"/>
              <a:ext cx="3903840" cy="239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3" name="Picture 7" descr="personaje de dibujos animados de niña linda con bata de laboratorio 2025946  - Descargar Vectores Gratis, Illustrator Graficos, Plantillas Diseño"/>
          <p:cNvPicPr/>
          <p:nvPr/>
        </p:nvPicPr>
        <p:blipFill>
          <a:blip r:embed="rId5"/>
          <a:stretch/>
        </p:blipFill>
        <p:spPr>
          <a:xfrm>
            <a:off x="307800" y="1143000"/>
            <a:ext cx="1643400" cy="4329000"/>
          </a:xfrm>
          <a:prstGeom prst="rect">
            <a:avLst/>
          </a:prstGeom>
          <a:ln w="0">
            <a:noFill/>
          </a:ln>
        </p:spPr>
      </p:pic>
      <p:sp>
        <p:nvSpPr>
          <p:cNvPr id="1364" name="CuadroTexto 3"/>
          <p:cNvSpPr/>
          <p:nvPr/>
        </p:nvSpPr>
        <p:spPr>
          <a:xfrm>
            <a:off x="2025720" y="1143000"/>
            <a:ext cx="64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EL CORAZON IMPULSA LA SANGRE MEDIANTE DOS MOVIMIENTOS, UNO DE RELAJACIÓN Y OTRO DE CONTRAC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CuadroTexto 4"/>
          <p:cNvSpPr/>
          <p:nvPr/>
        </p:nvSpPr>
        <p:spPr>
          <a:xfrm>
            <a:off x="1631880" y="5734080"/>
            <a:ext cx="72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omic Sans MS"/>
              </a:rPr>
              <a:t>¿SABES CUANTOS LATIDOS TENEMOS POR MINUT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Flecha: a la derecha 5"/>
          <p:cNvSpPr/>
          <p:nvPr/>
        </p:nvSpPr>
        <p:spPr>
          <a:xfrm>
            <a:off x="784080" y="5886360"/>
            <a:ext cx="890640" cy="5587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79280" y="100080"/>
            <a:ext cx="518472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a Circula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8" name="Picture 4" descr="circulacion"/>
          <p:cNvPicPr/>
          <p:nvPr/>
        </p:nvPicPr>
        <p:blipFill>
          <a:blip r:embed="rId1"/>
          <a:stretch/>
        </p:blipFill>
        <p:spPr>
          <a:xfrm>
            <a:off x="179280" y="1052640"/>
            <a:ext cx="6012000" cy="542124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5" descr="venas"/>
          <p:cNvPicPr/>
          <p:nvPr/>
        </p:nvPicPr>
        <p:blipFill>
          <a:blip r:embed="rId2"/>
          <a:stretch/>
        </p:blipFill>
        <p:spPr>
          <a:xfrm>
            <a:off x="6012000" y="18900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1370" name="CuadroTexto 1"/>
          <p:cNvSpPr/>
          <p:nvPr/>
        </p:nvSpPr>
        <p:spPr>
          <a:xfrm>
            <a:off x="6191280" y="3573360"/>
            <a:ext cx="262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orresponde a la circulación de la sangre que va desde el corazón a   los pulmones y viceversa y tiene la función de limpiar la sangre eliminando el CO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3 Marcador de contenido" descr=""/>
          <p:cNvPicPr/>
          <p:nvPr/>
        </p:nvPicPr>
        <p:blipFill>
          <a:blip r:embed="rId1"/>
          <a:stretch/>
        </p:blipFill>
        <p:spPr>
          <a:xfrm>
            <a:off x="291960" y="189000"/>
            <a:ext cx="84567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0:00:50Z</dcterms:created>
  <dc:creator>Alexandra Dorante</dc:creator>
  <dc:description/>
  <dc:language>en-US</dc:language>
  <cp:lastModifiedBy>Windows User</cp:lastModifiedBy>
  <dcterms:modified xsi:type="dcterms:W3CDTF">2021-08-04T15:04:03Z</dcterms:modified>
  <cp:revision>40</cp:revision>
  <dc:subject/>
  <dc:title>SISTEMA CIRCULATORIO</dc:title>
</cp:coreProperties>
</file>