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3.gif" ContentType="image/gif"/>
  <Override PartName="/ppt/media/image16.png" ContentType="image/png"/>
  <Override PartName="/ppt/media/image21.png" ContentType="image/png"/>
  <Override PartName="/ppt/media/image24.png" ContentType="image/png"/>
  <Override PartName="/ppt/media/image31.gif" ContentType="image/gif"/>
  <Override PartName="/ppt/media/image19.gif" ContentType="image/gif"/>
  <Override PartName="/ppt/media/image14.jpeg" ContentType="image/jpeg"/>
  <Override PartName="/ppt/media/image17.png" ContentType="image/png"/>
  <Override PartName="/ppt/media/image32.jpeg" ContentType="image/jpeg"/>
  <Override PartName="/ppt/media/image28.gif" ContentType="image/gif"/>
  <Override PartName="/ppt/media/image10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33.png" ContentType="image/png"/>
  <Override PartName="/ppt/media/image13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0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59BE-CCCA-4662-ACA2-CEA70F67242E}" type="slidenum">
              <a:rPr b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FDE-E162-4023-AE9F-C9A967EAF9D1}" type="slidenum">
              <a:rPr b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187-62FB-4D12-85CE-EEF82A9B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614-3183-419F-860A-F785DC9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C0D-E83B-46CE-8ABB-86CB8229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984-C3B4-42C0-B3DE-523EE1F9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1E4-89DE-4752-A7DA-1D5FD6EA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6AF7-8B39-4CC9-AACC-6523E722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0870-BE39-4254-AC2B-4DEA2E5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C69-58F6-49A3-A391-0E754A0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3B56-6E4B-4827-8312-60662EC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F59B-4FB4-487A-8BA0-A02D22E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0F9B-2E7D-4C7D-B002-BCAE8C6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F9B-89D1-48A4-8578-6F07F75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CBF-A744-4395-8C50-505FAA2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808-0819-4B1D-9C82-75FE115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EC11-54E3-40AD-8D5A-0550E3F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2ABF-15FF-4069-9EB9-62A9ED2B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694-D8BC-448F-8DBA-9ABEEE1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6951-D0CB-4062-BB8F-7D874093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241D-896A-4196-BA00-52CFA99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11FC-802C-49B2-94E0-D6690F8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270B-813D-4F3B-B95D-D8A310C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07C5-4146-41E8-8351-B7D3CAA4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F6A-09D0-46C5-8D31-391A58CF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15BD-86B6-4786-A0DF-6E36214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5722-E55C-4068-BDFB-3D91153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8234-EE3C-48E5-BBB7-0E6EC73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8CDD-1C96-4880-A018-A074CD1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2CB7-731C-492B-A08C-A378738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FDE6-4731-4258-B0DE-B1F9DB92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F124-CBC6-4FA7-8503-FE54C4FE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97E-AF19-4E15-B2C0-FA8D58C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999-3173-4462-ADEC-0DCFB1A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A97-3855-4F14-9F99-35A66B0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F74-EDAA-4A0D-935A-9309208A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553-4837-4C07-BFDC-8793964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4F2-8732-4695-B8F4-813D8DA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784C-45B1-4486-9393-4BABCB6AD4F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22E-8F4F-4EED-B80E-107580DADC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8E08-43F5-4FA8-9B5C-05B1BE5178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Imagen 4" descr="Una sala de estar&#10;&#10;Descripción generada automáticamente con confianza media"/>
          <p:cNvPicPr/>
          <p:nvPr/>
        </p:nvPicPr>
        <p:blipFill>
          <a:blip r:embed="rId1"/>
          <a:srcRect l="0" t="0" r="0" b="6303"/>
          <a:stretch/>
        </p:blipFill>
        <p:spPr>
          <a:xfrm>
            <a:off x="68400" y="0"/>
            <a:ext cx="9075600" cy="6000840"/>
          </a:xfrm>
          <a:prstGeom prst="rect">
            <a:avLst/>
          </a:prstGeom>
          <a:ln w="0">
            <a:noFill/>
          </a:ln>
        </p:spPr>
      </p:pic>
      <p:sp>
        <p:nvSpPr>
          <p:cNvPr id="133" name="CuadroTexto 5"/>
          <p:cNvSpPr/>
          <p:nvPr/>
        </p:nvSpPr>
        <p:spPr>
          <a:xfrm>
            <a:off x="3254400" y="98280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c000"/>
                </a:solidFill>
                <a:latin typeface="Comic Sans MS"/>
              </a:rPr>
              <a:t>El sistema Respirator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CuadroTexto 6"/>
          <p:cNvSpPr/>
          <p:nvPr/>
        </p:nvSpPr>
        <p:spPr>
          <a:xfrm>
            <a:off x="3419640" y="1506600"/>
            <a:ext cx="44607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omic Sans MS"/>
              </a:rPr>
              <a:t>Objetivos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omic Sans MS"/>
              </a:rPr>
              <a:t>1-. Conocer las estructuras del sistema respiratorio y sus funcione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omic Sans MS"/>
              </a:rPr>
              <a:t>2-. Entender como se realiza el intercambio gaseoso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omic Sans MS"/>
              </a:rPr>
              <a:t>3-. Entender el proceso de la inhalación y exhalació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CuadroTexto 7"/>
          <p:cNvSpPr/>
          <p:nvPr/>
        </p:nvSpPr>
        <p:spPr>
          <a:xfrm>
            <a:off x="1044720" y="467676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Profesora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Ivonne Palma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08000" y="765000"/>
            <a:ext cx="6480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oda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las vías respiratori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, desde las fosas nasales hasta los bronquiolos terminales, se mantienen húmedas por la presencia de una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capa de células (epitelio)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que produce una sustancia llamada moco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moc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humedece el aire e impide que las delicadas paredes alveolares se sequen, a la vez que atrapa a las partículas de polvo y sustancias extraña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Imagen 2" descr=""/>
          <p:cNvPicPr/>
          <p:nvPr/>
        </p:nvPicPr>
        <p:blipFill>
          <a:blip r:embed="rId2"/>
          <a:stretch/>
        </p:blipFill>
        <p:spPr>
          <a:xfrm>
            <a:off x="6948360" y="907920"/>
            <a:ext cx="2170080" cy="4824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8"/>
          <p:cNvSpPr/>
          <p:nvPr/>
        </p:nvSpPr>
        <p:spPr>
          <a:xfrm>
            <a:off x="142920" y="754200"/>
            <a:ext cx="48578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mbién se encuentran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células ciliad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 Las cilios son especies de pelos en la superficie de la célula que tienen movimiento ondulatorio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os movimientos hacen que el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moc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fluya lentamente hacia la laringe. Luego el moco y las partículas que lleva atrapadas son deglutidas o expulsadas al exterior por medio de la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t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5"/>
          <p:cNvPicPr/>
          <p:nvPr/>
        </p:nvPicPr>
        <p:blipFill>
          <a:blip r:embed="rId2"/>
          <a:stretch/>
        </p:blipFill>
        <p:spPr>
          <a:xfrm>
            <a:off x="5154480" y="1368360"/>
            <a:ext cx="3889440" cy="40323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250920" y="14400"/>
            <a:ext cx="68421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99"/>
                </a:solidFill>
                <a:latin typeface="Times New Roman"/>
              </a:rPr>
              <a:t>NARIZ. Fosas nasa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Las cavidades nasales están revestidas por una capa de células (epitelio) que secreta una sustancia llamada moco. Posee un rico riego sanguíneo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uando el aire pasa por las fosas nasales, las cavidades nasales cumplen distintas funcion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alientan y humidifican el aire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 Habitualmente la temperatura del aire inspirado se eleva a una temperatura que es menor en 1 grado centígrado a la corporal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Filtran partículas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 Los pelos ubicados a la entrada de las fosas nasales son importantes     para filtrar las partículas grand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Imagen 2" descr=""/>
          <p:cNvPicPr/>
          <p:nvPr/>
        </p:nvPicPr>
        <p:blipFill>
          <a:blip r:embed="rId2"/>
          <a:stretch/>
        </p:blipFill>
        <p:spPr>
          <a:xfrm>
            <a:off x="7569360" y="0"/>
            <a:ext cx="1574640" cy="3336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1571760" y="857160"/>
            <a:ext cx="5786280" cy="47595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908000" y="260280"/>
            <a:ext cx="705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FARING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Aquí se entrecruzan los conductos de los aparatos digestivo y respiratorio. Los alimentos pasan de la faringe al esófago y luego al estómago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l aire pasa hacia la laringe y la tráquea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ara evitar que los alimentos penetren en las vías respiratorias, se cierra, mediante un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acto reflej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en la parte superior de la laringe, una válvula llamada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epiglot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Imagen 2" descr=""/>
          <p:cNvPicPr/>
          <p:nvPr/>
        </p:nvPicPr>
        <p:blipFill>
          <a:blip r:embed="rId2"/>
          <a:stretch/>
        </p:blipFill>
        <p:spPr>
          <a:xfrm>
            <a:off x="17640" y="1484280"/>
            <a:ext cx="1908000" cy="4321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120000" cy="48736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28760" y="301680"/>
            <a:ext cx="7786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LARING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 el órgano de la fonación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Utiliza el aire espirado para producir la voz, ya que en ella se encuentran las cuerdas vocale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Interviene en el proceso de la tos, cerrando las vías aéreas de manera de producir la presión necesaria para generar la tos, luego se abre y permite la liberación del aire en forma brusca (tos), que limpia las vías de moco y partículas extraña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643280" y="62150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TOS, ESTORNUDO, ET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7643880" y="5357880"/>
            <a:ext cx="131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laringe"/>
          <p:cNvPicPr/>
          <p:nvPr/>
        </p:nvPicPr>
        <p:blipFill>
          <a:blip r:embed="rId2"/>
          <a:stretch/>
        </p:blipFill>
        <p:spPr>
          <a:xfrm>
            <a:off x="2571840" y="514440"/>
            <a:ext cx="4029120" cy="31431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2214720" y="3846600"/>
            <a:ext cx="4714560" cy="277632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285840" y="390600"/>
            <a:ext cx="8501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TRÁQUE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 un tubo de aire, continuación inferior de la larin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 elástico, mide de 10 a 12 cm de longitud y tiene un diámetro igual al del dedo índic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osee aproximadamente 20 anillos cartilaginosos en forma de herradura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Aproximadamente la mitad de la tráquea esta en el cuello y la otra mitad en el tórax y termina a nivel del esternón dividiéndose en dos bronquio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max-traquea"/>
          <p:cNvPicPr/>
          <p:nvPr/>
        </p:nvPicPr>
        <p:blipFill>
          <a:blip r:embed="rId2"/>
          <a:stretch/>
        </p:blipFill>
        <p:spPr>
          <a:xfrm>
            <a:off x="1285920" y="642960"/>
            <a:ext cx="6429240" cy="55720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9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000240" y="428760"/>
            <a:ext cx="552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tráquea se divide en d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bronqui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, uno derecho y otro izquierdo, que se dirigen hacia los pulmones. Ambos tienen poco más de la mitad del calibre de la tráquea, siendo el derecho más amplio que el izquierdo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e es más amplio debido a que el pulmón derecho es más voluminoso que el izquierdo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froganim"/>
          <p:cNvPicPr/>
          <p:nvPr/>
        </p:nvPicPr>
        <p:blipFill>
          <a:blip r:embed="rId2"/>
          <a:stretch/>
        </p:blipFill>
        <p:spPr>
          <a:xfrm>
            <a:off x="5429160" y="5000760"/>
            <a:ext cx="1633680" cy="164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57120" y="1214280"/>
            <a:ext cx="2425680" cy="327672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028000" cy="433692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042920" y="692280"/>
            <a:ext cx="70293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A medida que se dividen los bronquios van haciéndose progresivamente de menor calibre hasta pasar a dimensiones microscópicas y entonces toman el nombre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bronquiol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s divisiones repetidas de los bronquiolos dan lugar a l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bronquiolos terminales o respiratori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, que se abren en el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conducto alveolar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, del cual derivan l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sacos aére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pared de cada conducto alveolar y saco aéreo está formada por varias unidades llamada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alvéolos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ron"/>
          <p:cNvPicPr/>
          <p:nvPr/>
        </p:nvPicPr>
        <p:blipFill>
          <a:blip r:embed="rId2"/>
          <a:stretch/>
        </p:blipFill>
        <p:spPr>
          <a:xfrm>
            <a:off x="2389320" y="304920"/>
            <a:ext cx="5840280" cy="60195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202" name="Text Box 3"/>
          <p:cNvSpPr/>
          <p:nvPr/>
        </p:nvSpPr>
        <p:spPr>
          <a:xfrm>
            <a:off x="905040" y="1488960"/>
            <a:ext cx="231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ÍOL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276720" y="1828800"/>
            <a:ext cx="99036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68240" y="3429000"/>
            <a:ext cx="231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ÍOL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CUNDARI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3048120" y="3733920"/>
            <a:ext cx="18288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285920" y="5375160"/>
            <a:ext cx="239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ÍOLO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CIARI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3581280" y="49528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TRAQUEA"/>
          <p:cNvPicPr/>
          <p:nvPr/>
        </p:nvPicPr>
        <p:blipFill>
          <a:blip r:embed="rId2"/>
          <a:srcRect l="0" t="0" r="18418" b="0"/>
          <a:stretch/>
        </p:blipFill>
        <p:spPr>
          <a:xfrm>
            <a:off x="785880" y="928800"/>
            <a:ext cx="7173720" cy="54734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209" name="Text Box 3"/>
          <p:cNvSpPr/>
          <p:nvPr/>
        </p:nvSpPr>
        <p:spPr>
          <a:xfrm>
            <a:off x="611280" y="26028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68360" y="404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RAMIFICACIONES DE BRONQUIOS Y BRONQUÍOLO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LM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dos masas cónicas que se encuentran en la cavidad torácica, exactamente en las cavidades pleurales derecha e izquierda existentes en el tóra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esenta dos caras por las cuales penetran los bronquios y entran y salen las venas y arteria pulmona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357960" y="4643280"/>
            <a:ext cx="14288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1071720" y="333360"/>
            <a:ext cx="6929280" cy="6191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042920" y="404640"/>
            <a:ext cx="71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orción respiratoria de los pulmones, formada por l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pulmon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con l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bronquiol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respiratorios, los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alvéolos pulmonar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tejido elástic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5" descr="pulmones"/>
          <p:cNvPicPr/>
          <p:nvPr/>
        </p:nvPicPr>
        <p:blipFill>
          <a:blip r:embed="rId2"/>
          <a:stretch/>
        </p:blipFill>
        <p:spPr>
          <a:xfrm>
            <a:off x="539640" y="2349360"/>
            <a:ext cx="8137800" cy="4175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217" name="Picture 6" descr="heart"/>
          <p:cNvPicPr/>
          <p:nvPr/>
        </p:nvPicPr>
        <p:blipFill>
          <a:blip r:embed="rId3"/>
          <a:stretch/>
        </p:blipFill>
        <p:spPr>
          <a:xfrm>
            <a:off x="2771640" y="3716280"/>
            <a:ext cx="187164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alvéolos3"/>
          <p:cNvPicPr/>
          <p:nvPr/>
        </p:nvPicPr>
        <p:blipFill>
          <a:blip r:embed="rId2"/>
          <a:stretch/>
        </p:blipFill>
        <p:spPr>
          <a:xfrm>
            <a:off x="1285920" y="262080"/>
            <a:ext cx="7172280" cy="636732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219" name="Text Box 4"/>
          <p:cNvSpPr/>
          <p:nvPr/>
        </p:nvSpPr>
        <p:spPr>
          <a:xfrm>
            <a:off x="3800520" y="650880"/>
            <a:ext cx="2314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ÍOL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CIARI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2742840" y="838080"/>
            <a:ext cx="10666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3276720" y="3962520"/>
            <a:ext cx="2133360" cy="2590560"/>
          </a:xfrm>
          <a:prstGeom prst="flowChartConnector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643800" y="5143680"/>
            <a:ext cx="2217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CO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VEOLA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5410080" y="5715000"/>
            <a:ext cx="10908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865560" y="2714760"/>
            <a:ext cx="187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VÉOLO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2"/>
          <p:cNvSpPr/>
          <p:nvPr/>
        </p:nvSpPr>
        <p:spPr>
          <a:xfrm flipH="1">
            <a:off x="5866920" y="3000240"/>
            <a:ext cx="847800" cy="12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13"/>
          <p:cNvSpPr/>
          <p:nvPr/>
        </p:nvSpPr>
        <p:spPr>
          <a:xfrm flipH="1">
            <a:off x="3276360" y="3000240"/>
            <a:ext cx="3438360" cy="657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4"/>
          <p:cNvSpPr/>
          <p:nvPr/>
        </p:nvSpPr>
        <p:spPr>
          <a:xfrm flipH="1" flipV="1">
            <a:off x="5257440" y="2666880"/>
            <a:ext cx="1528920" cy="333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6652080" y="1071720"/>
            <a:ext cx="2032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DUCTO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VEOLA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6"/>
          <p:cNvSpPr/>
          <p:nvPr/>
        </p:nvSpPr>
        <p:spPr>
          <a:xfrm flipH="1">
            <a:off x="3733560" y="1500120"/>
            <a:ext cx="2909880" cy="862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4680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mamíf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l hech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tar con pul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 alvé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ulmonares los prov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un 50% má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xígen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alquier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762800" cy="3248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232" name="7 CuadroTexto"/>
          <p:cNvSpPr/>
          <p:nvPr/>
        </p:nvSpPr>
        <p:spPr>
          <a:xfrm>
            <a:off x="357120" y="7142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alvéol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realiza el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intercambio gaseoso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¿Qué debemos sab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6694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de la respi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Para realizar todas sus funciones, las </a:t>
            </a: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células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 necesitan el </a:t>
            </a: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oxígeno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 del aire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ingresa al cuerpo a través d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so respiratori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oxígeno es para obtener la energía contenida en los nutrientes, mediante el proceso llamado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spiración cel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Niña, Científico Fotos, Retratos, Imágenes Y Fotografía De Archivo Libres  De Derecho. Image 76848872."/>
          <p:cNvPicPr/>
          <p:nvPr/>
        </p:nvPicPr>
        <p:blipFill>
          <a:blip r:embed="rId1"/>
          <a:srcRect l="10980" t="0" r="10936" b="0"/>
          <a:stretch/>
        </p:blipFill>
        <p:spPr>
          <a:xfrm>
            <a:off x="6854760" y="1413000"/>
            <a:ext cx="191448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omic Sans MS"/>
              </a:rPr>
              <a:t>DOS PROCESOS DE RESPI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285920"/>
            <a:ext cx="8532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ndo respiramos ocurren dos procesos importantes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La ventilación pulmonar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el proceso por el cual el aire entra y sale de nuestros pulmones. La ventilación pulmonar se realiza en dos f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spiración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Los pulmones se ensanchan y el aire entra en su i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spiración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pulmones se estrechan y el aire sale al exteri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l intercambio de gase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s la inspiración, se produce un intercambio de gases entre la sangre y el aire que ha entrado en los pulm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Parte del oxígeno del aire pasa a la sangre que llega a los pulm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- El dióxido de carbono que la sangre ha recogido de las células como sustancias de desecho, pasa de la sangre al 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cap="sq" w="63360">
            <a:solidFill>
              <a:srgbClr val="00b0f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VENTILACIÓN PULMO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Respiración"/>
          <p:cNvPicPr/>
          <p:nvPr/>
        </p:nvPicPr>
        <p:blipFill>
          <a:blip r:embed="rId2"/>
          <a:stretch/>
        </p:blipFill>
        <p:spPr>
          <a:xfrm>
            <a:off x="1143000" y="1989000"/>
            <a:ext cx="6929280" cy="420552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5 Diagrama" descr=""/>
          <p:cNvPicPr/>
          <p:nvPr/>
        </p:nvPicPr>
        <p:blipFill>
          <a:blip r:embed="rId2"/>
          <a:stretch/>
        </p:blipFill>
        <p:spPr>
          <a:xfrm>
            <a:off x="384120" y="1030320"/>
            <a:ext cx="7083360" cy="5595840"/>
          </a:xfrm>
          <a:prstGeom prst="rect">
            <a:avLst/>
          </a:prstGeom>
          <a:ln w="0">
            <a:noFill/>
          </a:ln>
        </p:spPr>
      </p:pic>
      <p:sp>
        <p:nvSpPr>
          <p:cNvPr id="238" name="6 CuadroTexto"/>
          <p:cNvSpPr/>
          <p:nvPr/>
        </p:nvSpPr>
        <p:spPr>
          <a:xfrm>
            <a:off x="1042920" y="316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MECÁNICA RESPIRATO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7596360" y="882720"/>
            <a:ext cx="1382400" cy="2633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4"/>
          <a:stretch/>
        </p:blipFill>
        <p:spPr>
          <a:xfrm>
            <a:off x="7596360" y="3790800"/>
            <a:ext cx="1428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089600" cy="50403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242" name="Picture 8" descr="Lámina"/>
          <p:cNvPicPr/>
          <p:nvPr/>
        </p:nvPicPr>
        <p:blipFill>
          <a:blip r:embed="rId3"/>
          <a:stretch/>
        </p:blipFill>
        <p:spPr>
          <a:xfrm>
            <a:off x="4500720" y="620640"/>
            <a:ext cx="4392360" cy="50403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INSPIRACIÓN Y ESPI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143000" y="138888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zando la composición del aire inspirado y del aire espirado obtenemos los siguientes dato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2997360"/>
          <a:ext cx="6877080" cy="3017520"/>
        </p:xfrm>
        <a:graphic>
          <a:graphicData uri="http://schemas.openxmlformats.org/drawingml/2006/table">
            <a:tbl>
              <a:tblPr/>
              <a:tblGrid>
                <a:gridCol w="2368800"/>
                <a:gridCol w="2254320"/>
                <a:gridCol w="225396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E INSPIRAD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E ESPIRAD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ógen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xígen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óxido de Carbon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´0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por de agu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y poco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tan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80"/>
                      </a:solidFill>
                    </a:lnL>
                    <a:lnR w="4320">
                      <a:solidFill>
                        <a:srgbClr val="000080"/>
                      </a:solidFill>
                    </a:lnR>
                    <a:lnT w="4320">
                      <a:solidFill>
                        <a:srgbClr val="000080"/>
                      </a:solidFill>
                    </a:lnT>
                    <a:lnB w="4320">
                      <a:solidFill>
                        <a:srgbClr val="00008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246" name="Rectangle 111"/>
          <p:cNvSpPr/>
          <p:nvPr/>
        </p:nvSpPr>
        <p:spPr>
          <a:xfrm>
            <a:off x="3081240" y="4934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pulmones"/>
          <p:cNvPicPr/>
          <p:nvPr/>
        </p:nvPicPr>
        <p:blipFill>
          <a:blip r:embed="rId2"/>
          <a:stretch/>
        </p:blipFill>
        <p:spPr>
          <a:xfrm>
            <a:off x="857160" y="806400"/>
            <a:ext cx="7429680" cy="52466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l camino del aire: Vías Respirato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16120" y="1125360"/>
            <a:ext cx="68119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aire ingresa por la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osas nas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a través de l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spi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aire sigue por la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faring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laring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corre la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tráquea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lo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bronqui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hasta llegar a lo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pulmon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oxígeno del aire entra a lo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ulm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pasa a la sangre, a través de lo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pila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lvéolos pulmonare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onde se produce el intercambio gase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Imagen 5" descr=""/>
          <p:cNvPicPr/>
          <p:nvPr/>
        </p:nvPicPr>
        <p:blipFill>
          <a:blip r:embed="rId1"/>
          <a:srcRect l="31993" t="53872" r="49636" b="0"/>
          <a:stretch/>
        </p:blipFill>
        <p:spPr>
          <a:xfrm>
            <a:off x="250920" y="1557360"/>
            <a:ext cx="158436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6408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 sangre toma el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oxígen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del aire y libera el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óxido de carbon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que conti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r la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piración,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el aire recorre el camino inverso y sales al exteri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n el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ire espirand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elimina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óxido de carbon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ua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en forma de vap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1 CuadroTexto"/>
          <p:cNvSpPr/>
          <p:nvPr/>
        </p:nvSpPr>
        <p:spPr>
          <a:xfrm>
            <a:off x="108000" y="34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Comic Sans MS"/>
              </a:rPr>
              <a:t>FINALMENTE……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2" descr="Chica en bata de ciencia en blanco | Vector Gratis"/>
          <p:cNvPicPr/>
          <p:nvPr/>
        </p:nvPicPr>
        <p:blipFill>
          <a:blip r:embed="rId1"/>
          <a:stretch/>
        </p:blipFill>
        <p:spPr>
          <a:xfrm>
            <a:off x="7020000" y="115920"/>
            <a:ext cx="1712880" cy="482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¿Qué es la 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Zona Respiratoria?</a:t>
            </a: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87640" y="981000"/>
            <a:ext cx="59054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donde se intercambian los gases, en los capilares alveola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O2 se transporta en la sangre de dos for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nido a la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emoglobin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molécula presente en lo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óbulos roj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uelto en el plas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Cartoon Waving Woman Fotos e Imágenes de stock - Página 5 - Alamy"/>
          <p:cNvPicPr/>
          <p:nvPr/>
        </p:nvPicPr>
        <p:blipFill>
          <a:blip r:embed="rId1"/>
          <a:srcRect l="0" t="0" r="0" b="7021"/>
          <a:stretch/>
        </p:blipFill>
        <p:spPr>
          <a:xfrm>
            <a:off x="250920" y="871560"/>
            <a:ext cx="2376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r"/>
          <p:cNvPicPr/>
          <p:nvPr/>
        </p:nvPicPr>
        <p:blipFill>
          <a:blip r:embed="rId1"/>
          <a:stretch/>
        </p:blipFill>
        <p:spPr>
          <a:xfrm>
            <a:off x="91440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951520" y="838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VIDAD NASA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4"/>
          <p:cNvSpPr/>
          <p:nvPr/>
        </p:nvSpPr>
        <p:spPr>
          <a:xfrm flipH="1">
            <a:off x="4343040" y="1066680"/>
            <a:ext cx="1676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5"/>
          <p:cNvSpPr/>
          <p:nvPr/>
        </p:nvSpPr>
        <p:spPr>
          <a:xfrm flipH="1">
            <a:off x="5105520" y="1523880"/>
            <a:ext cx="83808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99840" y="12952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RIZ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98520" y="1752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RI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895480" y="2057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099480" y="19051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RI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10"/>
          <p:cNvSpPr/>
          <p:nvPr/>
        </p:nvSpPr>
        <p:spPr>
          <a:xfrm flipH="1">
            <a:off x="4267080" y="2209680"/>
            <a:ext cx="18288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236640" y="24796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ÁQUE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2"/>
          <p:cNvSpPr/>
          <p:nvPr/>
        </p:nvSpPr>
        <p:spPr>
          <a:xfrm flipH="1">
            <a:off x="4190760" y="2666880"/>
            <a:ext cx="20574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7196040" y="3200400"/>
            <a:ext cx="21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MÓ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QUIERD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4"/>
          <p:cNvSpPr/>
          <p:nvPr/>
        </p:nvSpPr>
        <p:spPr>
          <a:xfrm flipH="1">
            <a:off x="5410080" y="3809880"/>
            <a:ext cx="18288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7302960" y="5299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ILL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5867280" y="548640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5790960" y="5486400"/>
            <a:ext cx="152388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368640" y="522288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AFRAGM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2438280" y="5562720"/>
            <a:ext cx="7621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611640" y="2971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I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2438280" y="3429000"/>
            <a:ext cx="15242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697680" y="38862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RONQUÍOL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2971800" y="4267080"/>
            <a:ext cx="53352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71680" y="260280"/>
            <a:ext cx="71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ESQUEMA APARATO RESPIRATORI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211680" y="4500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VÉOLO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2500200" y="4881600"/>
            <a:ext cx="5335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785880" y="1214280"/>
            <a:ext cx="3959280" cy="521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La respiración es un proceso involuntario y automático, mediante la cual las células del cuerpo toman oxígeno (O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) y eliminan el dióxido de carbono (CO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 un intercambio gaseoso (O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 y CO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) entre el aire de la atmósfera y el organismo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908000" y="260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Comic Sans MS"/>
              </a:rPr>
              <a:t>LA RESPIRACIÓ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7" descr="Responde a la pregunta."/>
          <p:cNvPicPr/>
          <p:nvPr/>
        </p:nvPicPr>
        <p:blipFill>
          <a:blip r:embed="rId3"/>
          <a:stretch/>
        </p:blipFill>
        <p:spPr>
          <a:xfrm>
            <a:off x="5081760" y="979560"/>
            <a:ext cx="3889080" cy="21286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76" name="Picture 12" descr="untitled"/>
          <p:cNvPicPr/>
          <p:nvPr/>
        </p:nvPicPr>
        <p:blipFill>
          <a:blip r:embed="rId4"/>
          <a:srcRect l="0" t="8344" r="0" b="8344"/>
          <a:stretch/>
        </p:blipFill>
        <p:spPr>
          <a:xfrm>
            <a:off x="5392800" y="3300480"/>
            <a:ext cx="3384360" cy="33843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755640" y="26028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l sistema respiratorio esta formado por: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Vías respiratori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: fosas nasales, faringe, laringe, tráquea, árbol bronquial; que conducen, calientan, humidifican y filtran el aire inspirado de partículas de polvo y gases irritantes antes de su llegada a la porción pulmonar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pulmon"/>
          <p:cNvPicPr/>
          <p:nvPr/>
        </p:nvPicPr>
        <p:blipFill>
          <a:blip r:embed="rId2"/>
          <a:stretch/>
        </p:blipFill>
        <p:spPr>
          <a:xfrm>
            <a:off x="1689120" y="3027240"/>
            <a:ext cx="5186520" cy="37148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1:11:59Z</dcterms:created>
  <dc:creator>Cecilia Norero</dc:creator>
  <dc:description/>
  <dc:language>en-US</dc:language>
  <cp:lastModifiedBy>Windows User</cp:lastModifiedBy>
  <dcterms:modified xsi:type="dcterms:W3CDTF">2021-08-04T14:58:01Z</dcterms:modified>
  <cp:revision>85</cp:revision>
  <dc:subject/>
  <dc:title>Sistema Respiratorio</dc:title>
</cp:coreProperties>
</file>