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gif" ContentType="image/gif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4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DE978-372C-4E6E-9BF8-69825B3AB006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F9957-55C0-417B-B931-4E175485FBF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C1D-B7BC-47C0-BDCF-59DDACA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1D9-2461-44C2-8BE9-83F46E1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944-AB0D-4D1C-9A5B-1151021B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EF0-86C6-4C2E-8EF5-01DD6F7B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C5E-8AF6-4975-BC91-0AB4DC46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71AF-9B41-4789-9133-E96A9B6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2DB3-90A0-4D43-9493-E9E99DB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98B-D980-443B-A634-DD02A0B6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FD8-4AD6-48E7-B027-97D9BD3F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4E6C-2ED3-4E26-8F2E-0937474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D08B-3C64-4E31-84C0-859AEE3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B4B-1CED-4B14-A326-051B35B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04EA-EB95-47A4-BA19-73EED5D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38C9-A588-4778-A9D9-C9AC6C53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7CD7-782F-4809-8365-7B297FCB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13B5-645C-42A8-B171-98D3C2A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56E0-AECE-4B4E-BBC8-CE80A532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49E8-20A4-471D-B35E-BB2414BF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5D88-48D5-40AA-8513-FBC877C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F0A3-931B-46A2-9FB1-07D2B45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1918-481F-4BAB-ADE0-5A013524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C2D1-3C09-47E8-9588-A79369CD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027-248D-4BC4-93A0-AB3911EE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5AFA-7547-4A24-BE38-D1429175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B3B5-9390-4905-A78A-E2FB7188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1D72-590F-4F29-8B08-8E34269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E48B-E54D-4CD6-90F0-B107DAC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23B2-6366-4E01-9643-B89046A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D230-ADF6-475C-A6E1-8CBBCDFC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7DEC-28DB-4954-8FA9-5D59748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B2D7-3810-423F-8F4A-57FED08C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F63E-9EE8-4A24-9475-16BC6B9F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1883-B1F2-416E-A9AC-2B409FC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807-AB39-4C33-A096-127633F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8731-EE4D-4DEE-824E-C76C8E4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EC49-02BF-43EA-838C-92B72EF8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6341-E59A-42C6-8B5F-D65FA00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C80A-34A5-43DF-98A7-AAFD6F2A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730E-EEE6-49CD-862D-947AE83F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69DD-4267-48F8-9871-A8886961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2235-A5B0-4A64-900E-FC7FE676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17AB-ED33-4259-B67B-CAE19810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6EBF-EF5E-40B3-B258-63373C6D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12A8-FB36-4A8F-B074-D6532C57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1AF-59AF-405C-86ED-98FB38F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4C41-B4CB-4246-97B4-990E5A7F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EFFD-68F5-4B3B-92D1-1160FC09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372C-B543-4669-AFB3-0BA9523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BBA3-0074-41F4-897E-69A5A09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61B3-20A0-4F6B-BC59-54FE5C7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9C14-6DB2-41E4-BADA-AACC876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04A8-8743-48EC-BAC0-9C492E3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D50BE-DB7D-44CE-8B34-7723D092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59E4-B2D7-455E-A654-9B49477E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6EBA-0E1B-4B59-AEB9-7E8D678A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A99-BB5E-4846-98C3-57D3D58F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35F9-5A1D-43D2-96D0-2EED7AFE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4E98-51C0-41D7-8C84-5DC9C157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E0C11-53AA-47B5-91B2-92D8E1A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55CE1-A750-4A03-B339-A0B5CF96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A4A0-E84E-4A20-BB10-78F0BE0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A0A1-82D8-44A0-ADCF-9418321E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CA31-7A76-4069-983C-C3AA47B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A7FC-BB40-4F9F-98DD-ECF57800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3F806-02D2-43DE-90DC-89BD6F5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97E5B-F7B7-4D77-93BD-482BDF2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5E8-F9F8-417B-B74B-C4CB32C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7268-FF18-4E60-8FE6-15E5DE65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4BF1-9A1E-4FCB-8443-FCC526AB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2B81-2A02-4468-9914-47406005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ABE78-EC07-4AEC-8A15-541DA7E5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E63E-BD38-424C-9F59-5293A34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6D85-DB75-4C3C-AB11-BC9FC563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6E89-93B1-4130-8A9B-A0F9B1C6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6558-15D2-4E0A-AAB6-EA5B6910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54D0A-EB93-4830-B137-14FBE4E5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7416D-8C10-4787-9CEA-8F7B7E74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DA1-5131-47F8-A9D8-64F37C1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2AFD-0BEE-486B-B854-89B7E79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9669-7ABF-465A-993D-8F73EEF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7ECD-BD72-48D5-850D-5A6828D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C6B8-D276-4F2C-8C41-8459B838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8823-77BB-4C9B-8CDD-6472D5D7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E00-211A-408B-8D3C-BA3F510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DDF0E-CC7E-4C6A-BB66-2A248C25D33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73F8C-B29C-4927-8671-9C39B1B7218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68406-A6AC-40FC-A4A0-D4A16A65DB8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D8772-9C38-4A4C-83DC-996AA72E940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7ACEB-6380-4CF9-A6F3-72271BA4158F}" type="slidenum">
              <a:rPr b="0" lang="es-E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E8B67-C407-48E1-A21B-D44AA10B128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F61DF-94EE-4561-856B-EDAB194A7BE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s-PE" sz="4400" spc="-1" strike="noStrike">
                <a:solidFill>
                  <a:srgbClr val="262626"/>
                </a:solidFill>
                <a:latin typeface="Britannic Bold"/>
              </a:rPr>
              <a:t>Terremotos y volcanismo.</a:t>
            </a:r>
            <a:br>
              <a:rPr sz="4400"/>
            </a:br>
            <a:br>
              <a:rPr sz="7200"/>
            </a:br>
            <a:r>
              <a:rPr b="1" lang="es-PE" sz="2400" spc="-1" strike="noStrike">
                <a:solidFill>
                  <a:srgbClr val="262626"/>
                </a:solidFill>
                <a:latin typeface="Calibri Light"/>
              </a:rPr>
              <a:t>objetivos:</a:t>
            </a:r>
            <a:br>
              <a:rPr sz="2400"/>
            </a:br>
            <a:r>
              <a:rPr b="0" lang="es-PE" sz="2400" spc="-1" strike="noStrike">
                <a:solidFill>
                  <a:srgbClr val="262626"/>
                </a:solidFill>
                <a:latin typeface="Calibri Light"/>
              </a:rPr>
              <a:t>Identificar las causas principales de la producción de sismos,  terremotos y erupciones volcánicas.</a:t>
            </a:r>
            <a:br>
              <a:rPr sz="2400"/>
            </a:br>
            <a:r>
              <a:rPr b="0" lang="es-PE" sz="2400" spc="-1" strike="noStrike">
                <a:solidFill>
                  <a:srgbClr val="262626"/>
                </a:solidFill>
                <a:latin typeface="Calibri Light"/>
              </a:rPr>
              <a:t>Entender conceptos relacionados con el volcanismo y actividad sísmica.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Imagen 3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66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4360" y="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 sismogra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71360" y="1773360"/>
            <a:ext cx="460872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Los gráficos producidos por los sismógrafos se conocen como sismogramas, y a partir de ellos es posible determinar el lugar y la intensidad de un terremoto. Muchos sismogramas son muy complicados y se requiere una técnica y experiencia considerables para interpretarlos, pero los más simples no son difíciles de lee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5" name="Picture 4" descr="sismografo"/>
          <p:cNvPicPr/>
          <p:nvPr/>
        </p:nvPicPr>
        <p:blipFill>
          <a:blip r:embed="rId1"/>
          <a:stretch/>
        </p:blipFill>
        <p:spPr>
          <a:xfrm>
            <a:off x="4754520" y="1484280"/>
            <a:ext cx="4218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La escala de Ritch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5280" y="1858680"/>
            <a:ext cx="6624720" cy="326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Para medir la magnitud de un terremoto, se utiliza la escala de Ritcher, que consta de 9 grados, cada uno de los cuales supone una liberación de energía 10 veces superior a la del grado anterior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Picture 4" descr="earthquake03"/>
          <p:cNvPicPr/>
          <p:nvPr/>
        </p:nvPicPr>
        <p:blipFill>
          <a:blip r:embed="rId1"/>
          <a:stretch/>
        </p:blipFill>
        <p:spPr>
          <a:xfrm>
            <a:off x="3083040" y="400536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Imagen 4" descr="Imagen que contiene juguete, muñeca, interior, pequeño&#10;&#10;Descripción generada automáticamente"/>
          <p:cNvPicPr/>
          <p:nvPr/>
        </p:nvPicPr>
        <p:blipFill>
          <a:blip r:embed="rId2"/>
          <a:stretch/>
        </p:blipFill>
        <p:spPr>
          <a:xfrm>
            <a:off x="6948360" y="2492280"/>
            <a:ext cx="1422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La escala de Ritch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enor de 3,5: Aunque no se suele sentir, es registrado por los sismógraf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3,5 a 5,4: Generalmente se siente, pero sólo causa daños menore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5,5 a 6,0: Produce pequeños daños en edifici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6,1 a 6,9: Puede ocasionar daños muy importantes en áreas poblada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7,0 a 7,9: Causa graves daños: hundimiento de puentes y derrumbe de muchos edifici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Mayor de 7,9: Provoca una destrucción total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iapositiva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Escala de Mercalli – SeismicKnowledge"/>
          <p:cNvPicPr/>
          <p:nvPr/>
        </p:nvPicPr>
        <p:blipFill>
          <a:blip r:embed="rId1"/>
          <a:srcRect l="3540" t="5203" r="1964" b="10801"/>
          <a:stretch/>
        </p:blipFill>
        <p:spPr>
          <a:xfrm>
            <a:off x="324000" y="26028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6894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¿Qué es un tsunami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3640" y="1798560"/>
            <a:ext cx="50101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Palabra japonesa utilizada como término científico para describir las olas marinas de origen sísmico. Se trata de grandes olas generadas por un terremoto submarino o maremoto, cuando el suelo del océano bascula durante el temblor o se producen corrimientos de tierra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Un tsunami puede viajar cientos de kilómetros por alta mar y alcanzar velocidades en torno a los 725 u 800 km/h. La ola, que en el mar puede tener una altura de solo un metro, se convierte súbitamente en un muro de agua de 15 m al llegar a las aguas poco profundas de la costa y es capaz de destruir las poblaciones que encuentre en ell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6" name="Picture 4" descr="tsunami"/>
          <p:cNvPicPr/>
          <p:nvPr/>
        </p:nvPicPr>
        <p:blipFill>
          <a:blip r:embed="rId1"/>
          <a:stretch/>
        </p:blipFill>
        <p:spPr>
          <a:xfrm>
            <a:off x="6443640" y="57168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tsunami2"/>
          <p:cNvPicPr/>
          <p:nvPr/>
        </p:nvPicPr>
        <p:blipFill>
          <a:blip r:embed="rId2"/>
          <a:stretch/>
        </p:blipFill>
        <p:spPr>
          <a:xfrm>
            <a:off x="6157800" y="2612880"/>
            <a:ext cx="2540160" cy="1778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tsunami3"/>
          <p:cNvPicPr/>
          <p:nvPr/>
        </p:nvPicPr>
        <p:blipFill>
          <a:blip r:embed="rId3"/>
          <a:stretch/>
        </p:blipFill>
        <p:spPr>
          <a:xfrm>
            <a:off x="5680080" y="4400640"/>
            <a:ext cx="30099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758520"/>
            <a:ext cx="75438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262626"/>
                </a:solidFill>
                <a:latin typeface="Calibri Light"/>
              </a:rPr>
              <a:t>LOS VOLCAN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¿Qué es un volcá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40960" y="1077840"/>
            <a:ext cx="75438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En el interior de la Tierra las rocas se encuentran fundidas, debido a las altas presiones y temperaturas, constituyendo lo que se llam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Si el magma consigue salir al exterior se origina un </a:t>
            </a:r>
            <a:r>
              <a:rPr b="0" lang="es-ES" sz="2000" spc="-1" strike="noStrike">
                <a:solidFill>
                  <a:srgbClr val="637052"/>
                </a:solidFill>
                <a:latin typeface="Calibri"/>
              </a:rPr>
              <a:t>volcá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2" name="Imagen 1" descr=""/>
          <p:cNvPicPr/>
          <p:nvPr/>
        </p:nvPicPr>
        <p:blipFill>
          <a:blip r:embed="rId1"/>
          <a:stretch/>
        </p:blipFill>
        <p:spPr>
          <a:xfrm>
            <a:off x="841320" y="2371680"/>
            <a:ext cx="6970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99920" y="2988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Partes de un volcá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Picture 5" descr="volcan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404040"/>
                </a:solidFill>
                <a:latin typeface="Calibri Light"/>
              </a:rPr>
              <a:t>Productos que arroja un volcán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41360" y="1052280"/>
            <a:ext cx="83073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SÓLIDOS (PIROCLASTOS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Cenizas (partículas de menos de 2 mm de diámetro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Lapillis (guijarros entre 2 y 64 mm de diámetro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Bombas volcánicas (rocas redondeadas mayores de 64 mm de diámetro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LÍQUIDOS (LAVA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Materiales fundidos a temperaturas superiores a 1.000 º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GASEOSO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Vapor de agua, sulfuro de hidrógeno y dióxido de carbono, principalmen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Picture 2" descr="Diapositiva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Tipos de volcan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24000" y="1125000"/>
            <a:ext cx="84960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Atendiendo a las características de las erupciones, los volcanes se clasifican en tres tipo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</a:rPr>
              <a:t>VOLCÁN HAWAIA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</a:rPr>
              <a:t>VOLCÁN ESTROMBOLIA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</a:rPr>
              <a:t>VOLCÁN PELEA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olcán hawaian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15920"/>
            <a:ext cx="4114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Si el magma es muy fluido, el gas acumulado en él se escapa fácilmente produciendo erupciones tranquilas y formando extensas colad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1" name="Picture 5" descr="hawaiano"/>
          <p:cNvPicPr/>
          <p:nvPr/>
        </p:nvPicPr>
        <p:blipFill>
          <a:blip r:embed="rId1"/>
          <a:stretch/>
        </p:blipFill>
        <p:spPr>
          <a:xfrm>
            <a:off x="5148360" y="692280"/>
            <a:ext cx="3671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271080"/>
            <a:ext cx="583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olcán estrombolian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418608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Si el magma es más viscoso, las erupciones son violentas y se producen coladas extensas de lava. Son los volcanes más típicos y conocido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4" name="Picture 5" descr="estromboli"/>
          <p:cNvPicPr/>
          <p:nvPr/>
        </p:nvPicPr>
        <p:blipFill>
          <a:blip r:embed="rId1"/>
          <a:stretch/>
        </p:blipFill>
        <p:spPr>
          <a:xfrm>
            <a:off x="5076720" y="1252440"/>
            <a:ext cx="367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46864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olcán pelean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73360"/>
            <a:ext cx="433080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Si el magma es muy viscoso, los gases escapan con dificultad, por lo que originan erupciones muy explosivas y la lava sale prácticamente sólid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5" descr="peleano"/>
          <p:cNvPicPr/>
          <p:nvPr/>
        </p:nvPicPr>
        <p:blipFill>
          <a:blip r:embed="rId1"/>
          <a:stretch/>
        </p:blipFill>
        <p:spPr>
          <a:xfrm>
            <a:off x="5149800" y="549360"/>
            <a:ext cx="3537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59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ulcanismo atenuad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203280" y="1722600"/>
            <a:ext cx="5267160" cy="3412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En zonas volcánicas donde no hay volcanes activos, o en las proximidades de algún volcán activo, se pueden producir emisiones de gases o líquidos a elevadas temperaturas. Las formas más comunes de este vulcanismo atenuado son las siguientes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0" name="Imagen 3" descr="Dibujo animado de un personaje animado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539640" y="1557360"/>
            <a:ext cx="266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FUMAROL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316040" y="2565000"/>
            <a:ext cx="403236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Emanaciones de gases a altas temperaturas que escapan por el cráter y las griet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fumarola"/>
          <p:cNvPicPr/>
          <p:nvPr/>
        </p:nvPicPr>
        <p:blipFill>
          <a:blip r:embed="rId1"/>
          <a:stretch/>
        </p:blipFill>
        <p:spPr>
          <a:xfrm>
            <a:off x="777960" y="1758960"/>
            <a:ext cx="2878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FUENTES TERMAL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3280" y="1989000"/>
            <a:ext cx="368316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Emisiones regulares de agua caliente en forma apacible. Son aguas muy ricas en sales minerale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6" name="Picture 4" descr="termas"/>
          <p:cNvPicPr/>
          <p:nvPr/>
        </p:nvPicPr>
        <p:blipFill>
          <a:blip r:embed="rId1"/>
          <a:stretch/>
        </p:blipFill>
        <p:spPr>
          <a:xfrm>
            <a:off x="1258920" y="1341360"/>
            <a:ext cx="334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36054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GÉISER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51280" y="2637000"/>
            <a:ext cx="46195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Erupciones intermitentes de agua caliente y muy mineralizad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9" name="Picture 4" descr="geiser"/>
          <p:cNvPicPr/>
          <p:nvPr/>
        </p:nvPicPr>
        <p:blipFill>
          <a:blip r:embed="rId1"/>
          <a:stretch/>
        </p:blipFill>
        <p:spPr>
          <a:xfrm>
            <a:off x="673200" y="1484280"/>
            <a:ext cx="2946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En el Cinturón de Fuego del Pacífico la actividad sigue siendo normal |  Centro Nacional de Prevención de Desastres | Gobierno | gob.mx"/>
          <p:cNvPicPr/>
          <p:nvPr/>
        </p:nvPicPr>
        <p:blipFill>
          <a:blip r:embed="rId1"/>
          <a:srcRect l="0" t="0" r="0" b="14301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21880" y="1846080"/>
            <a:ext cx="75438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404040"/>
                </a:solidFill>
                <a:latin typeface="Calibri"/>
              </a:rPr>
              <a:t>¿Qué son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404040"/>
                </a:solidFill>
                <a:latin typeface="Calibri"/>
              </a:rPr>
              <a:t>¿Por qué se producen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404040"/>
                </a:solidFill>
                <a:latin typeface="Calibri"/>
              </a:rPr>
              <a:t>¿Se pueden predecir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14520" y="1206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637052"/>
                </a:solidFill>
                <a:latin typeface="Calibri Light"/>
              </a:rPr>
              <a:t>LOS TERREMO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Imagen 4" descr="Un dibujo de un perro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395280" y="1628640"/>
            <a:ext cx="17287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404040"/>
                </a:solidFill>
                <a:latin typeface="Calibri Light"/>
              </a:rPr>
              <a:t>¿Qué es un terremoto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3440" y="1557360"/>
            <a:ext cx="736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Los terremotos, o seísmos, son movimientos bruscos de las capas superficiales de la Tierra, producidos por la fractura y el desplazamiento de grandes masas rocosas del interior de la corteza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Estos movimientos liberan gran cantidad de energía de forma repentina, violenta y, en algunas ocasiones, destructiva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1" name="Imagen 3" descr="Dibujo animado de un personaje de caricatura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7740720" y="1844640"/>
            <a:ext cx="1239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Picture 5" descr="terremotoret"/>
          <p:cNvPicPr/>
          <p:nvPr/>
        </p:nvPicPr>
        <p:blipFill>
          <a:blip r:embed="rId1"/>
          <a:stretch/>
        </p:blipFill>
        <p:spPr>
          <a:xfrm>
            <a:off x="1187280" y="1628640"/>
            <a:ext cx="3089520" cy="4653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1835280" y="47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IPOCEN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2205000"/>
            <a:ext cx="3313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POCENTR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lugar del interior de la Tierra donde se origina el terremoto; en él se produce la rotura de las rocas y, por tanto, la sacudida y la liberación de energí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4" descr="terremotoret"/>
          <p:cNvPicPr/>
          <p:nvPr/>
        </p:nvPicPr>
        <p:blipFill>
          <a:blip r:embed="rId1"/>
          <a:stretch/>
        </p:blipFill>
        <p:spPr>
          <a:xfrm>
            <a:off x="852480" y="1484280"/>
            <a:ext cx="3394080" cy="51134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241128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ONDAS SÍSM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4716360" y="1413000"/>
            <a:ext cx="3527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NDAS SÍSM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las vibraciones que, desde el hipocentro del seísmo, transmiten el movimiento en todas las direcciones y producen las catástrof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8" descr="seismicwaves"/>
          <p:cNvPicPr/>
          <p:nvPr/>
        </p:nvPicPr>
        <p:blipFill>
          <a:blip r:embed="rId2"/>
          <a:stretch/>
        </p:blipFill>
        <p:spPr>
          <a:xfrm>
            <a:off x="4859280" y="4292640"/>
            <a:ext cx="3048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2" name="Picture 4" descr="terremotoret"/>
          <p:cNvPicPr/>
          <p:nvPr/>
        </p:nvPicPr>
        <p:blipFill>
          <a:blip r:embed="rId1"/>
          <a:stretch/>
        </p:blipFill>
        <p:spPr>
          <a:xfrm>
            <a:off x="1258920" y="1484280"/>
            <a:ext cx="3108240" cy="46814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050920" y="32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PICEN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643280" y="2060640"/>
            <a:ext cx="37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PICENTR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punto en la superficie, en la vertical del hipocentro, donde las ondas sísmicas alcanzan la superficie terrestre y se notan con más intensidad los efectos del terrem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6" name="Picture 4" descr="terremotoret"/>
          <p:cNvPicPr/>
          <p:nvPr/>
        </p:nvPicPr>
        <p:blipFill>
          <a:blip r:embed="rId1"/>
          <a:stretch/>
        </p:blipFill>
        <p:spPr>
          <a:xfrm>
            <a:off x="2924280" y="1125360"/>
            <a:ext cx="3633840" cy="5472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468360" y="59500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POCE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11280" y="141300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PICE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95280" y="3213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NDAS SÍS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66 0.06012 L 0.32291 -0.17572 E">
                                      <p:cBhvr>
                                        <p:cTn id="11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4 -0.00786 L 0.32309 0.26243 E">
                                      <p:cBhvr>
                                        <p:cTn id="122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21 -0.01642 L 0.12813 -0.02821 C 0.13872 -0.03376 0.14566 -0.0585 0.15573 -0.06659 C 0.16354 -0.07053 0.18351 -0.06128 0.1901 -0.06474 C 0.19948 -0.0696 0.20729 -0.07954 0.22483 -0.08856 L 0.17795 -0.29758 L 0.2625 -0.06035 L 0.26927 -0.10105 L 0.27986 -0.117 L 0.31458 -0.12602 C 0.32813 -0.13758 0.33524 -0.1607 0.34792 -0.17503 C 0.35313 -0.17896 0.36476 -0.18636 0.37361 -0.18821 C 0.38247 -0.1896 0.39445 -0.17503 0.3974 -0.17503 C 0.4033 -0.1718 0.41094 -0.18197 0.41701 -0.18197 L 0.42639 -0.1822 L 0.44115 -0.18983 E">
                                      <p:cBhvr>
                                        <p:cTn id="126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 sismógraf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1773000"/>
            <a:ext cx="4897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Un sismógrafo es un aparato que detecta y graba las ondas sísmicas que un terremoto o una explosión genera en la tierra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El lápiz está en contacto con un tambor giratorio unido a la estructura. Cuando una onda sísmica alcanza el instrumento, el suelo, la estructura y el tambor vibran de lado a lado, pero, debido a su inercia, el objeto suspendido no lo hace. Entonces, el lápiz dibuja una línea ondulada sobre el tambo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2" name="Picture 4" descr="sismografo"/>
          <p:cNvPicPr/>
          <p:nvPr/>
        </p:nvPicPr>
        <p:blipFill>
          <a:blip r:embed="rId1"/>
          <a:srcRect l="9449" t="0" r="5504" b="0"/>
          <a:stretch/>
        </p:blipFill>
        <p:spPr>
          <a:xfrm>
            <a:off x="5219640" y="250920"/>
            <a:ext cx="3745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22:19:36Z</dcterms:created>
  <dc:creator>MORON</dc:creator>
  <dc:description/>
  <dc:language>en-US</dc:language>
  <cp:lastModifiedBy>Windows User</cp:lastModifiedBy>
  <dcterms:modified xsi:type="dcterms:W3CDTF">2021-09-27T16:26:19Z</dcterms:modified>
  <cp:revision>15</cp:revision>
  <dc:subject/>
  <dc:title>LOS TERREMOTOS</dc:title>
</cp:coreProperties>
</file>